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8141D-B3E6-4F3F-B3DD-A036505AB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78D48-8583-46E6-AFB4-F0F1D0394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9A8D5-8909-4768-8ACF-157B36F57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8C52C-A6DD-48F9-901A-52A0A7F78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4B851-C022-4AEE-87B3-E563915F5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A3005-81B8-4C60-B0E1-C817CDF15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C2F30-2C11-4B5C-ADE8-BAAEF29DC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CF244-4CB4-4E32-8BF7-AFE1D7F62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CD480-419C-4A94-9C06-0FDA85176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55722-4972-4434-83B0-A93B791B5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6939F-0B63-4E48-A370-EEE3AF2DE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B6569-F0E4-43A6-B036-5946590CF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7B247-5C93-479C-BAB6-F7C71237A2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8.wmf"/><Relationship Id="rId1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513000" y="33012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ind the perimeter and are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133720" y="2743200"/>
            <a:ext cx="297180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63040" y="239868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 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67440" y="300816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 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081840" y="2398680"/>
            <a:ext cx="129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imeter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50040" y="3902040"/>
            <a:ext cx="584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209680" y="4495680"/>
            <a:ext cx="99072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63760" y="403848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324480" y="4419720"/>
            <a:ext cx="3207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312600" y="4319640"/>
            <a:ext cx="1233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imet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367760" y="2428920"/>
            <a:ext cx="812520" cy="258840"/>
          </a:xfrm>
          <a:custGeom>
            <a:avLst/>
            <a:gdLst/>
            <a:ahLst/>
            <a:rect l="l" t="t" r="r" b="b"/>
            <a:pathLst>
              <a:path w="2258" h="720">
                <a:moveTo>
                  <a:pt x="20613" y="6896"/>
                </a:moveTo>
                <a:cubicBezTo>
                  <a:pt x="20571" y="6854"/>
                  <a:pt x="20689" y="6754"/>
                  <a:pt x="20762" y="6747"/>
                </a:cubicBezTo>
                <a:cubicBezTo>
                  <a:pt x="20930" y="6730"/>
                  <a:pt x="20849" y="6983"/>
                  <a:pt x="20811" y="7045"/>
                </a:cubicBezTo>
                <a:cubicBezTo>
                  <a:pt x="20753" y="7103"/>
                  <a:pt x="20745" y="7111"/>
                  <a:pt x="20712" y="7144"/>
                </a:cubicBezTo>
                <a:cubicBezTo>
                  <a:pt x="20647" y="7111"/>
                  <a:pt x="20787" y="7129"/>
                  <a:pt x="20811" y="7144"/>
                </a:cubicBezTo>
                <a:cubicBezTo>
                  <a:pt x="20922" y="7215"/>
                  <a:pt x="20861" y="7371"/>
                  <a:pt x="20762" y="7417"/>
                </a:cubicBezTo>
                <a:cubicBezTo>
                  <a:pt x="20703" y="7444"/>
                  <a:pt x="20474" y="7447"/>
                  <a:pt x="20464" y="7342"/>
                </a:cubicBezTo>
                <a:cubicBezTo>
                  <a:pt x="20472" y="7334"/>
                  <a:pt x="20481" y="7325"/>
                  <a:pt x="20489" y="7317"/>
                </a:cubicBezTo>
              </a:path>
              <a:path w="2258" h="720">
                <a:moveTo>
                  <a:pt x="21258" y="6921"/>
                </a:moveTo>
                <a:cubicBezTo>
                  <a:pt x="21185" y="6940"/>
                  <a:pt x="21031" y="6968"/>
                  <a:pt x="21010" y="7045"/>
                </a:cubicBezTo>
                <a:cubicBezTo>
                  <a:pt x="21010" y="7070"/>
                  <a:pt x="21010" y="7094"/>
                  <a:pt x="21010" y="7119"/>
                </a:cubicBezTo>
                <a:cubicBezTo>
                  <a:pt x="21082" y="7145"/>
                  <a:pt x="21337" y="7200"/>
                  <a:pt x="21332" y="7317"/>
                </a:cubicBezTo>
                <a:cubicBezTo>
                  <a:pt x="21327" y="7437"/>
                  <a:pt x="21146" y="7459"/>
                  <a:pt x="21084" y="7441"/>
                </a:cubicBezTo>
                <a:cubicBezTo>
                  <a:pt x="21104" y="7270"/>
                  <a:pt x="21186" y="7134"/>
                  <a:pt x="21233" y="6970"/>
                </a:cubicBezTo>
                <a:cubicBezTo>
                  <a:pt x="21252" y="6904"/>
                  <a:pt x="21223" y="6921"/>
                  <a:pt x="21183" y="6921"/>
                </a:cubicBezTo>
              </a:path>
              <a:path w="2258" h="720">
                <a:moveTo>
                  <a:pt x="21803" y="7169"/>
                </a:moveTo>
                <a:cubicBezTo>
                  <a:pt x="21803" y="7259"/>
                  <a:pt x="21814" y="7331"/>
                  <a:pt x="21828" y="7417"/>
                </a:cubicBezTo>
              </a:path>
              <a:path w="2258" h="720">
                <a:moveTo>
                  <a:pt x="21679" y="7045"/>
                </a:moveTo>
                <a:lnTo>
                  <a:pt x="21679" y="7045"/>
                </a:lnTo>
              </a:path>
              <a:path w="2258" h="720">
                <a:moveTo>
                  <a:pt x="22051" y="7268"/>
                </a:moveTo>
                <a:cubicBezTo>
                  <a:pt x="22053" y="7271"/>
                  <a:pt x="22196" y="7509"/>
                  <a:pt x="22101" y="7367"/>
                </a:cubicBezTo>
                <a:cubicBezTo>
                  <a:pt x="22101" y="7294"/>
                  <a:pt x="22096" y="7195"/>
                  <a:pt x="22151" y="7144"/>
                </a:cubicBezTo>
                <a:cubicBezTo>
                  <a:pt x="22240" y="7061"/>
                  <a:pt x="22341" y="7182"/>
                  <a:pt x="22374" y="7243"/>
                </a:cubicBezTo>
                <a:cubicBezTo>
                  <a:pt x="22410" y="7308"/>
                  <a:pt x="22423" y="7345"/>
                  <a:pt x="22423" y="7417"/>
                </a:cubicBezTo>
              </a:path>
              <a:path w="2258" h="720">
                <a:moveTo>
                  <a:pt x="22721" y="7367"/>
                </a:moveTo>
                <a:lnTo>
                  <a:pt x="22721" y="7367"/>
                </a:ln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286240" y="3660840"/>
            <a:ext cx="920880" cy="465120"/>
          </a:xfrm>
          <a:custGeom>
            <a:avLst/>
            <a:gdLst/>
            <a:ahLst/>
            <a:rect l="l" t="t" r="r" b="b"/>
            <a:pathLst>
              <a:path w="2556" h="1291">
                <a:moveTo>
                  <a:pt x="14734" y="10319"/>
                </a:moveTo>
                <a:cubicBezTo>
                  <a:pt x="14715" y="10435"/>
                  <a:pt x="14724" y="10549"/>
                  <a:pt x="14709" y="10666"/>
                </a:cubicBezTo>
                <a:cubicBezTo>
                  <a:pt x="14701" y="10699"/>
                  <a:pt x="14692" y="10732"/>
                  <a:pt x="14684" y="10765"/>
                </a:cubicBezTo>
                <a:cubicBezTo>
                  <a:pt x="14684" y="10834"/>
                  <a:pt x="14759" y="10419"/>
                  <a:pt x="14759" y="10418"/>
                </a:cubicBezTo>
                <a:cubicBezTo>
                  <a:pt x="14796" y="10298"/>
                  <a:pt x="14840" y="10200"/>
                  <a:pt x="14957" y="10170"/>
                </a:cubicBezTo>
                <a:cubicBezTo>
                  <a:pt x="15076" y="10274"/>
                  <a:pt x="15093" y="10431"/>
                  <a:pt x="15106" y="10592"/>
                </a:cubicBezTo>
                <a:cubicBezTo>
                  <a:pt x="15113" y="10674"/>
                  <a:pt x="15106" y="10823"/>
                  <a:pt x="15106" y="10740"/>
                </a:cubicBezTo>
                <a:cubicBezTo>
                  <a:pt x="15106" y="10715"/>
                  <a:pt x="15106" y="10691"/>
                  <a:pt x="15106" y="10666"/>
                </a:cubicBezTo>
              </a:path>
              <a:path w="2556" h="1291">
                <a:moveTo>
                  <a:pt x="14784" y="10567"/>
                </a:moveTo>
                <a:cubicBezTo>
                  <a:pt x="14893" y="10556"/>
                  <a:pt x="15005" y="10522"/>
                  <a:pt x="15106" y="10492"/>
                </a:cubicBezTo>
                <a:cubicBezTo>
                  <a:pt x="15123" y="10484"/>
                  <a:pt x="15139" y="10476"/>
                  <a:pt x="15156" y="10468"/>
                </a:cubicBezTo>
              </a:path>
              <a:path w="2556" h="1291">
                <a:moveTo>
                  <a:pt x="15379" y="10468"/>
                </a:moveTo>
                <a:cubicBezTo>
                  <a:pt x="15458" y="10468"/>
                  <a:pt x="15525" y="10452"/>
                  <a:pt x="15602" y="10443"/>
                </a:cubicBezTo>
              </a:path>
              <a:path w="2556" h="1291">
                <a:moveTo>
                  <a:pt x="15429" y="10616"/>
                </a:moveTo>
                <a:cubicBezTo>
                  <a:pt x="15519" y="10616"/>
                  <a:pt x="15517" y="10613"/>
                  <a:pt x="15602" y="10567"/>
                </a:cubicBezTo>
              </a:path>
              <a:path w="2556" h="1291">
                <a:moveTo>
                  <a:pt x="16049" y="10269"/>
                </a:moveTo>
                <a:cubicBezTo>
                  <a:pt x="16049" y="10426"/>
                  <a:pt x="16049" y="10583"/>
                  <a:pt x="16049" y="10740"/>
                </a:cubicBezTo>
              </a:path>
              <a:path w="2556" h="1291">
                <a:moveTo>
                  <a:pt x="16321" y="10368"/>
                </a:moveTo>
                <a:cubicBezTo>
                  <a:pt x="16334" y="10487"/>
                  <a:pt x="16395" y="10517"/>
                  <a:pt x="16446" y="10616"/>
                </a:cubicBezTo>
                <a:cubicBezTo>
                  <a:pt x="16465" y="10657"/>
                  <a:pt x="16484" y="10673"/>
                  <a:pt x="16446" y="10666"/>
                </a:cubicBezTo>
              </a:path>
              <a:path w="2556" h="1291">
                <a:moveTo>
                  <a:pt x="16446" y="10393"/>
                </a:moveTo>
                <a:cubicBezTo>
                  <a:pt x="16368" y="10440"/>
                  <a:pt x="16308" y="10572"/>
                  <a:pt x="16272" y="10666"/>
                </a:cubicBezTo>
                <a:cubicBezTo>
                  <a:pt x="16272" y="10674"/>
                  <a:pt x="16272" y="10683"/>
                  <a:pt x="16272" y="10691"/>
                </a:cubicBezTo>
              </a:path>
              <a:path w="2556" h="1291">
                <a:moveTo>
                  <a:pt x="16694" y="10344"/>
                </a:moveTo>
                <a:cubicBezTo>
                  <a:pt x="16676" y="10431"/>
                  <a:pt x="16647" y="10470"/>
                  <a:pt x="16644" y="10567"/>
                </a:cubicBezTo>
                <a:cubicBezTo>
                  <a:pt x="16644" y="10652"/>
                  <a:pt x="16638" y="10672"/>
                  <a:pt x="16669" y="10716"/>
                </a:cubicBezTo>
                <a:cubicBezTo>
                  <a:pt x="16763" y="10700"/>
                  <a:pt x="16827" y="10661"/>
                  <a:pt x="16867" y="10567"/>
                </a:cubicBezTo>
                <a:cubicBezTo>
                  <a:pt x="16888" y="10483"/>
                  <a:pt x="16890" y="10464"/>
                  <a:pt x="16917" y="10418"/>
                </a:cubicBezTo>
                <a:cubicBezTo>
                  <a:pt x="16917" y="10494"/>
                  <a:pt x="16918" y="10570"/>
                  <a:pt x="16991" y="10616"/>
                </a:cubicBezTo>
                <a:cubicBezTo>
                  <a:pt x="17075" y="10669"/>
                  <a:pt x="17207" y="10637"/>
                  <a:pt x="17214" y="10542"/>
                </a:cubicBezTo>
                <a:cubicBezTo>
                  <a:pt x="17219" y="10469"/>
                  <a:pt x="17251" y="10368"/>
                  <a:pt x="17165" y="10368"/>
                </a:cubicBezTo>
              </a:path>
              <a:path w="2556" h="1291">
                <a:moveTo>
                  <a:pt x="16421" y="11088"/>
                </a:moveTo>
                <a:cubicBezTo>
                  <a:pt x="16469" y="11124"/>
                  <a:pt x="16523" y="11236"/>
                  <a:pt x="16545" y="11311"/>
                </a:cubicBezTo>
                <a:cubicBezTo>
                  <a:pt x="16545" y="11336"/>
                  <a:pt x="16545" y="11344"/>
                  <a:pt x="16545" y="11361"/>
                </a:cubicBezTo>
              </a:path>
              <a:path w="2556" h="1291">
                <a:moveTo>
                  <a:pt x="16594" y="11013"/>
                </a:moveTo>
                <a:cubicBezTo>
                  <a:pt x="16511" y="11134"/>
                  <a:pt x="16434" y="11240"/>
                  <a:pt x="16396" y="11385"/>
                </a:cubicBezTo>
                <a:cubicBezTo>
                  <a:pt x="16396" y="11410"/>
                  <a:pt x="16396" y="11418"/>
                  <a:pt x="16421" y="11410"/>
                </a:cubicBezTo>
              </a:path>
              <a:path w="2556" h="1291">
                <a:moveTo>
                  <a:pt x="15677" y="10988"/>
                </a:moveTo>
                <a:cubicBezTo>
                  <a:pt x="15728" y="11077"/>
                  <a:pt x="15678" y="11211"/>
                  <a:pt x="15652" y="11311"/>
                </a:cubicBezTo>
                <a:cubicBezTo>
                  <a:pt x="15638" y="11364"/>
                  <a:pt x="15566" y="11441"/>
                  <a:pt x="15627" y="11410"/>
                </a:cubicBezTo>
              </a:path>
              <a:path w="2556" h="1291">
                <a:moveTo>
                  <a:pt x="16073" y="10914"/>
                </a:moveTo>
                <a:cubicBezTo>
                  <a:pt x="16057" y="10981"/>
                  <a:pt x="16015" y="11003"/>
                  <a:pt x="15949" y="11013"/>
                </a:cubicBezTo>
                <a:cubicBezTo>
                  <a:pt x="15888" y="11022"/>
                  <a:pt x="15915" y="11007"/>
                  <a:pt x="15900" y="11063"/>
                </a:cubicBezTo>
                <a:cubicBezTo>
                  <a:pt x="15877" y="11130"/>
                  <a:pt x="15872" y="11148"/>
                  <a:pt x="15850" y="11187"/>
                </a:cubicBezTo>
                <a:cubicBezTo>
                  <a:pt x="15919" y="11175"/>
                  <a:pt x="16031" y="11114"/>
                  <a:pt x="16073" y="11212"/>
                </a:cubicBezTo>
                <a:cubicBezTo>
                  <a:pt x="16115" y="11311"/>
                  <a:pt x="15993" y="11431"/>
                  <a:pt x="15900" y="11361"/>
                </a:cubicBezTo>
                <a:cubicBezTo>
                  <a:pt x="15892" y="11344"/>
                  <a:pt x="15883" y="11328"/>
                  <a:pt x="15875" y="11311"/>
                </a:cubicBezTo>
              </a:path>
              <a:path w="2556" h="1291">
                <a:moveTo>
                  <a:pt x="16942" y="10988"/>
                </a:moveTo>
                <a:cubicBezTo>
                  <a:pt x="16971" y="11077"/>
                  <a:pt x="16957" y="11121"/>
                  <a:pt x="16942" y="11212"/>
                </a:cubicBezTo>
                <a:cubicBezTo>
                  <a:pt x="17039" y="11212"/>
                  <a:pt x="17101" y="11161"/>
                  <a:pt x="17190" y="11137"/>
                </a:cubicBezTo>
                <a:cubicBezTo>
                  <a:pt x="17206" y="11137"/>
                  <a:pt x="17223" y="11137"/>
                  <a:pt x="17239" y="11137"/>
                </a:cubicBezTo>
              </a:path>
              <a:path w="2556" h="1291">
                <a:moveTo>
                  <a:pt x="17214" y="11013"/>
                </a:moveTo>
                <a:cubicBezTo>
                  <a:pt x="17156" y="11093"/>
                  <a:pt x="17180" y="11190"/>
                  <a:pt x="17165" y="11286"/>
                </a:cubicBezTo>
                <a:cubicBezTo>
                  <a:pt x="17154" y="11358"/>
                  <a:pt x="17140" y="11393"/>
                  <a:pt x="17140" y="11460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973920" y="3321000"/>
            <a:ext cx="366840" cy="243000"/>
          </a:xfrm>
          <a:custGeom>
            <a:avLst/>
            <a:gdLst/>
            <a:ahLst/>
            <a:rect l="l" t="t" r="r" b="b"/>
            <a:pathLst>
              <a:path w="1018" h="671">
                <a:moveTo>
                  <a:pt x="19496" y="9227"/>
                </a:moveTo>
                <a:cubicBezTo>
                  <a:pt x="19477" y="9328"/>
                  <a:pt x="19421" y="9420"/>
                  <a:pt x="19397" y="9525"/>
                </a:cubicBezTo>
                <a:cubicBezTo>
                  <a:pt x="19372" y="9634"/>
                  <a:pt x="19328" y="9791"/>
                  <a:pt x="19422" y="9872"/>
                </a:cubicBezTo>
                <a:cubicBezTo>
                  <a:pt x="19511" y="9949"/>
                  <a:pt x="19638" y="9879"/>
                  <a:pt x="19720" y="9847"/>
                </a:cubicBezTo>
                <a:cubicBezTo>
                  <a:pt x="19819" y="9808"/>
                  <a:pt x="19904" y="9731"/>
                  <a:pt x="19943" y="9624"/>
                </a:cubicBezTo>
                <a:cubicBezTo>
                  <a:pt x="19943" y="9608"/>
                  <a:pt x="19943" y="9591"/>
                  <a:pt x="19943" y="9575"/>
                </a:cubicBezTo>
                <a:cubicBezTo>
                  <a:pt x="19834" y="9555"/>
                  <a:pt x="19775" y="9578"/>
                  <a:pt x="19695" y="9674"/>
                </a:cubicBezTo>
                <a:cubicBezTo>
                  <a:pt x="19640" y="9740"/>
                  <a:pt x="19620" y="9806"/>
                  <a:pt x="19670" y="9872"/>
                </a:cubicBezTo>
              </a:path>
              <a:path w="1018" h="671">
                <a:moveTo>
                  <a:pt x="20216" y="9302"/>
                </a:moveTo>
                <a:cubicBezTo>
                  <a:pt x="20180" y="9302"/>
                  <a:pt x="20116" y="9291"/>
                  <a:pt x="20092" y="9327"/>
                </a:cubicBezTo>
                <a:cubicBezTo>
                  <a:pt x="20033" y="9416"/>
                  <a:pt x="19986" y="9567"/>
                  <a:pt x="19993" y="9674"/>
                </a:cubicBezTo>
                <a:cubicBezTo>
                  <a:pt x="19997" y="9738"/>
                  <a:pt x="20022" y="9813"/>
                  <a:pt x="20042" y="9872"/>
                </a:cubicBezTo>
                <a:cubicBezTo>
                  <a:pt x="20119" y="9872"/>
                  <a:pt x="20229" y="9884"/>
                  <a:pt x="20290" y="9823"/>
                </a:cubicBezTo>
                <a:cubicBezTo>
                  <a:pt x="20382" y="9731"/>
                  <a:pt x="20389" y="9645"/>
                  <a:pt x="20389" y="9525"/>
                </a:cubicBezTo>
                <a:cubicBezTo>
                  <a:pt x="20389" y="9468"/>
                  <a:pt x="20242" y="9366"/>
                  <a:pt x="20191" y="9351"/>
                </a:cubicBezTo>
                <a:cubicBezTo>
                  <a:pt x="20133" y="9351"/>
                  <a:pt x="20125" y="9351"/>
                  <a:pt x="20092" y="9351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510320" y="3197160"/>
            <a:ext cx="482760" cy="392040"/>
          </a:xfrm>
          <a:custGeom>
            <a:avLst/>
            <a:gdLst/>
            <a:ahLst/>
            <a:rect l="l" t="t" r="r" b="b"/>
            <a:pathLst>
              <a:path w="1340" h="1092">
                <a:moveTo>
                  <a:pt x="20910" y="9500"/>
                </a:moveTo>
                <a:cubicBezTo>
                  <a:pt x="20867" y="9544"/>
                  <a:pt x="20874" y="9739"/>
                  <a:pt x="20886" y="9823"/>
                </a:cubicBezTo>
                <a:cubicBezTo>
                  <a:pt x="20887" y="9828"/>
                  <a:pt x="20910" y="10013"/>
                  <a:pt x="20910" y="9947"/>
                </a:cubicBezTo>
              </a:path>
              <a:path w="1340" h="1092">
                <a:moveTo>
                  <a:pt x="20861" y="9302"/>
                </a:moveTo>
                <a:cubicBezTo>
                  <a:pt x="20861" y="9294"/>
                  <a:pt x="20861" y="9285"/>
                  <a:pt x="20861" y="9277"/>
                </a:cubicBezTo>
              </a:path>
              <a:path w="1340" h="1092">
                <a:moveTo>
                  <a:pt x="21134" y="9674"/>
                </a:moveTo>
                <a:cubicBezTo>
                  <a:pt x="21169" y="9754"/>
                  <a:pt x="21183" y="9811"/>
                  <a:pt x="21183" y="9897"/>
                </a:cubicBezTo>
                <a:cubicBezTo>
                  <a:pt x="21183" y="9831"/>
                  <a:pt x="21147" y="9784"/>
                  <a:pt x="21134" y="9723"/>
                </a:cubicBezTo>
                <a:cubicBezTo>
                  <a:pt x="21125" y="9677"/>
                  <a:pt x="21163" y="9561"/>
                  <a:pt x="21183" y="9525"/>
                </a:cubicBezTo>
                <a:cubicBezTo>
                  <a:pt x="21199" y="9497"/>
                  <a:pt x="21277" y="9465"/>
                  <a:pt x="21307" y="9475"/>
                </a:cubicBezTo>
                <a:cubicBezTo>
                  <a:pt x="21355" y="9491"/>
                  <a:pt x="21418" y="9585"/>
                  <a:pt x="21431" y="9624"/>
                </a:cubicBezTo>
                <a:cubicBezTo>
                  <a:pt x="21452" y="9685"/>
                  <a:pt x="21502" y="9759"/>
                  <a:pt x="21506" y="9823"/>
                </a:cubicBezTo>
                <a:cubicBezTo>
                  <a:pt x="21508" y="9855"/>
                  <a:pt x="21506" y="9889"/>
                  <a:pt x="21506" y="9922"/>
                </a:cubicBezTo>
              </a:path>
              <a:path w="1340" h="1092">
                <a:moveTo>
                  <a:pt x="21729" y="9029"/>
                </a:moveTo>
                <a:cubicBezTo>
                  <a:pt x="21742" y="8990"/>
                  <a:pt x="21753" y="9001"/>
                  <a:pt x="21779" y="8979"/>
                </a:cubicBezTo>
                <a:cubicBezTo>
                  <a:pt x="21835" y="8932"/>
                  <a:pt x="21926" y="8869"/>
                  <a:pt x="22002" y="8880"/>
                </a:cubicBezTo>
                <a:cubicBezTo>
                  <a:pt x="22010" y="8888"/>
                  <a:pt x="22019" y="8897"/>
                  <a:pt x="22027" y="8905"/>
                </a:cubicBezTo>
                <a:cubicBezTo>
                  <a:pt x="22027" y="8958"/>
                  <a:pt x="22011" y="9011"/>
                  <a:pt x="21977" y="9054"/>
                </a:cubicBezTo>
                <a:cubicBezTo>
                  <a:pt x="21925" y="9120"/>
                  <a:pt x="21886" y="9190"/>
                  <a:pt x="21828" y="9252"/>
                </a:cubicBezTo>
                <a:cubicBezTo>
                  <a:pt x="21782" y="9298"/>
                  <a:pt x="21768" y="9311"/>
                  <a:pt x="21754" y="9351"/>
                </a:cubicBezTo>
                <a:cubicBezTo>
                  <a:pt x="21793" y="9306"/>
                  <a:pt x="21818" y="9239"/>
                  <a:pt x="21878" y="9227"/>
                </a:cubicBezTo>
                <a:cubicBezTo>
                  <a:pt x="21886" y="9227"/>
                  <a:pt x="21895" y="9227"/>
                  <a:pt x="21903" y="9227"/>
                </a:cubicBezTo>
                <a:cubicBezTo>
                  <a:pt x="21938" y="9276"/>
                  <a:pt x="21956" y="9331"/>
                  <a:pt x="22027" y="9351"/>
                </a:cubicBezTo>
                <a:cubicBezTo>
                  <a:pt x="22070" y="9363"/>
                  <a:pt x="22181" y="9316"/>
                  <a:pt x="22200" y="9277"/>
                </a:cubicBezTo>
                <a:cubicBezTo>
                  <a:pt x="22200" y="9269"/>
                  <a:pt x="22200" y="9260"/>
                  <a:pt x="22200" y="9252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73280" y="3813120"/>
            <a:ext cx="214560" cy="204840"/>
          </a:xfrm>
          <a:custGeom>
            <a:avLst/>
            <a:gdLst/>
            <a:ahLst/>
            <a:rect l="l" t="t" r="r" b="b"/>
            <a:pathLst>
              <a:path w="596" h="571">
                <a:moveTo>
                  <a:pt x="9649" y="10592"/>
                </a:moveTo>
                <a:cubicBezTo>
                  <a:pt x="9649" y="10724"/>
                  <a:pt x="9649" y="10856"/>
                  <a:pt x="9649" y="10988"/>
                </a:cubicBezTo>
              </a:path>
              <a:path w="596" h="571">
                <a:moveTo>
                  <a:pt x="10170" y="10666"/>
                </a:moveTo>
                <a:cubicBezTo>
                  <a:pt x="10099" y="10702"/>
                  <a:pt x="10047" y="10659"/>
                  <a:pt x="9996" y="10666"/>
                </a:cubicBezTo>
                <a:cubicBezTo>
                  <a:pt x="9943" y="10673"/>
                  <a:pt x="9862" y="10740"/>
                  <a:pt x="9847" y="10790"/>
                </a:cubicBezTo>
                <a:cubicBezTo>
                  <a:pt x="9839" y="10817"/>
                  <a:pt x="9847" y="10906"/>
                  <a:pt x="9847" y="10939"/>
                </a:cubicBezTo>
                <a:cubicBezTo>
                  <a:pt x="9912" y="10939"/>
                  <a:pt x="9957" y="10908"/>
                  <a:pt x="10021" y="10889"/>
                </a:cubicBezTo>
                <a:cubicBezTo>
                  <a:pt x="10115" y="10861"/>
                  <a:pt x="10231" y="10852"/>
                  <a:pt x="10244" y="10964"/>
                </a:cubicBezTo>
                <a:cubicBezTo>
                  <a:pt x="10258" y="11082"/>
                  <a:pt x="10070" y="11100"/>
                  <a:pt x="9996" y="11137"/>
                </a:cubicBezTo>
                <a:cubicBezTo>
                  <a:pt x="9974" y="11159"/>
                  <a:pt x="9969" y="11168"/>
                  <a:pt x="9947" y="11162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90920" y="4848120"/>
            <a:ext cx="135000" cy="216000"/>
          </a:xfrm>
          <a:custGeom>
            <a:avLst/>
            <a:gdLst/>
            <a:ahLst/>
            <a:rect l="l" t="t" r="r" b="b"/>
            <a:pathLst>
              <a:path w="373" h="596">
                <a:moveTo>
                  <a:pt x="9699" y="13519"/>
                </a:moveTo>
                <a:cubicBezTo>
                  <a:pt x="9787" y="13519"/>
                  <a:pt x="9861" y="13522"/>
                  <a:pt x="9947" y="13494"/>
                </a:cubicBezTo>
                <a:cubicBezTo>
                  <a:pt x="9987" y="13474"/>
                  <a:pt x="9993" y="13465"/>
                  <a:pt x="10021" y="13469"/>
                </a:cubicBezTo>
                <a:cubicBezTo>
                  <a:pt x="10074" y="13653"/>
                  <a:pt x="10071" y="13823"/>
                  <a:pt x="10071" y="14015"/>
                </a:cubicBezTo>
                <a:cubicBezTo>
                  <a:pt x="10071" y="14031"/>
                  <a:pt x="10071" y="14048"/>
                  <a:pt x="10071" y="14064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839960" y="3125880"/>
            <a:ext cx="160200" cy="179280"/>
          </a:xfrm>
          <a:custGeom>
            <a:avLst/>
            <a:gdLst/>
            <a:ahLst/>
            <a:rect l="l" t="t" r="r" b="b"/>
            <a:pathLst>
              <a:path w="447" h="497">
                <a:moveTo>
                  <a:pt x="5135" y="8731"/>
                </a:moveTo>
                <a:cubicBezTo>
                  <a:pt x="5092" y="8745"/>
                  <a:pt x="5100" y="8856"/>
                  <a:pt x="5110" y="8905"/>
                </a:cubicBezTo>
                <a:cubicBezTo>
                  <a:pt x="5131" y="9002"/>
                  <a:pt x="5173" y="8986"/>
                  <a:pt x="5259" y="8954"/>
                </a:cubicBezTo>
                <a:cubicBezTo>
                  <a:pt x="5299" y="8934"/>
                  <a:pt x="5306" y="8926"/>
                  <a:pt x="5333" y="8930"/>
                </a:cubicBezTo>
              </a:path>
              <a:path w="447" h="497">
                <a:moveTo>
                  <a:pt x="5308" y="8682"/>
                </a:moveTo>
                <a:cubicBezTo>
                  <a:pt x="5373" y="8824"/>
                  <a:pt x="5442" y="8961"/>
                  <a:pt x="5507" y="9103"/>
                </a:cubicBezTo>
                <a:cubicBezTo>
                  <a:pt x="5528" y="9147"/>
                  <a:pt x="5531" y="9159"/>
                  <a:pt x="5556" y="9178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616880" y="4340160"/>
            <a:ext cx="795240" cy="330120"/>
          </a:xfrm>
          <a:custGeom>
            <a:avLst/>
            <a:gdLst/>
            <a:ahLst/>
            <a:rect l="l" t="t" r="r" b="b"/>
            <a:pathLst>
              <a:path w="2209" h="919">
                <a:moveTo>
                  <a:pt x="21406" y="12105"/>
                </a:moveTo>
                <a:cubicBezTo>
                  <a:pt x="21396" y="12157"/>
                  <a:pt x="21382" y="12229"/>
                  <a:pt x="21357" y="12204"/>
                </a:cubicBezTo>
                <a:cubicBezTo>
                  <a:pt x="21365" y="12188"/>
                  <a:pt x="21531" y="11998"/>
                  <a:pt x="21580" y="12055"/>
                </a:cubicBezTo>
                <a:cubicBezTo>
                  <a:pt x="21740" y="12244"/>
                  <a:pt x="21549" y="12551"/>
                  <a:pt x="21406" y="12675"/>
                </a:cubicBezTo>
                <a:cubicBezTo>
                  <a:pt x="21311" y="12757"/>
                  <a:pt x="21259" y="12772"/>
                  <a:pt x="21158" y="12750"/>
                </a:cubicBezTo>
                <a:cubicBezTo>
                  <a:pt x="21170" y="12606"/>
                  <a:pt x="21192" y="12530"/>
                  <a:pt x="21357" y="12576"/>
                </a:cubicBezTo>
                <a:cubicBezTo>
                  <a:pt x="21547" y="12629"/>
                  <a:pt x="21571" y="12747"/>
                  <a:pt x="21580" y="12923"/>
                </a:cubicBezTo>
                <a:cubicBezTo>
                  <a:pt x="21580" y="12948"/>
                  <a:pt x="21580" y="12956"/>
                  <a:pt x="21580" y="12923"/>
                </a:cubicBezTo>
              </a:path>
              <a:path w="2209" h="919">
                <a:moveTo>
                  <a:pt x="22175" y="12204"/>
                </a:moveTo>
                <a:cubicBezTo>
                  <a:pt x="22056" y="12164"/>
                  <a:pt x="21969" y="12169"/>
                  <a:pt x="21853" y="12229"/>
                </a:cubicBezTo>
                <a:cubicBezTo>
                  <a:pt x="21797" y="12266"/>
                  <a:pt x="21772" y="12261"/>
                  <a:pt x="21779" y="12303"/>
                </a:cubicBezTo>
                <a:cubicBezTo>
                  <a:pt x="21870" y="12396"/>
                  <a:pt x="22113" y="12446"/>
                  <a:pt x="22151" y="12601"/>
                </a:cubicBezTo>
                <a:cubicBezTo>
                  <a:pt x="22192" y="12767"/>
                  <a:pt x="22016" y="12860"/>
                  <a:pt x="21903" y="12849"/>
                </a:cubicBezTo>
                <a:cubicBezTo>
                  <a:pt x="21932" y="12676"/>
                  <a:pt x="22002" y="12457"/>
                  <a:pt x="22101" y="12303"/>
                </a:cubicBezTo>
                <a:cubicBezTo>
                  <a:pt x="22121" y="12272"/>
                  <a:pt x="22089" y="12278"/>
                  <a:pt x="22027" y="12278"/>
                </a:cubicBezTo>
              </a:path>
              <a:path w="2209" h="919">
                <a:moveTo>
                  <a:pt x="22671" y="12601"/>
                </a:moveTo>
                <a:cubicBezTo>
                  <a:pt x="22717" y="12586"/>
                  <a:pt x="22687" y="12551"/>
                  <a:pt x="22647" y="12526"/>
                </a:cubicBezTo>
                <a:cubicBezTo>
                  <a:pt x="22557" y="12469"/>
                  <a:pt x="22498" y="12464"/>
                  <a:pt x="22448" y="12576"/>
                </a:cubicBezTo>
                <a:cubicBezTo>
                  <a:pt x="22389" y="12708"/>
                  <a:pt x="22338" y="12905"/>
                  <a:pt x="22523" y="12948"/>
                </a:cubicBezTo>
                <a:cubicBezTo>
                  <a:pt x="22609" y="12948"/>
                  <a:pt x="22645" y="12942"/>
                  <a:pt x="22696" y="12898"/>
                </a:cubicBezTo>
              </a:path>
              <a:path w="2209" h="919">
                <a:moveTo>
                  <a:pt x="22870" y="12551"/>
                </a:moveTo>
                <a:cubicBezTo>
                  <a:pt x="22870" y="12677"/>
                  <a:pt x="22892" y="12839"/>
                  <a:pt x="22845" y="12948"/>
                </a:cubicBezTo>
                <a:cubicBezTo>
                  <a:pt x="22845" y="12874"/>
                  <a:pt x="22843" y="12737"/>
                  <a:pt x="22870" y="12675"/>
                </a:cubicBezTo>
                <a:cubicBezTo>
                  <a:pt x="22887" y="12635"/>
                  <a:pt x="22934" y="12610"/>
                  <a:pt x="22969" y="12601"/>
                </a:cubicBezTo>
                <a:cubicBezTo>
                  <a:pt x="23056" y="12679"/>
                  <a:pt x="23084" y="12727"/>
                  <a:pt x="23093" y="12849"/>
                </a:cubicBezTo>
                <a:cubicBezTo>
                  <a:pt x="23093" y="12882"/>
                  <a:pt x="23093" y="12882"/>
                  <a:pt x="23093" y="12824"/>
                </a:cubicBezTo>
                <a:cubicBezTo>
                  <a:pt x="23104" y="12688"/>
                  <a:pt x="23098" y="12636"/>
                  <a:pt x="23217" y="12576"/>
                </a:cubicBezTo>
                <a:cubicBezTo>
                  <a:pt x="23322" y="12655"/>
                  <a:pt x="23314" y="12704"/>
                  <a:pt x="23341" y="12824"/>
                </a:cubicBezTo>
                <a:cubicBezTo>
                  <a:pt x="23355" y="12885"/>
                  <a:pt x="23366" y="12913"/>
                  <a:pt x="23366" y="12973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153200" y="5160960"/>
            <a:ext cx="1062000" cy="403200"/>
          </a:xfrm>
          <a:custGeom>
            <a:avLst/>
            <a:gdLst/>
            <a:ahLst/>
            <a:rect l="l" t="t" r="r" b="b"/>
            <a:pathLst>
              <a:path w="2952" h="1117">
                <a:moveTo>
                  <a:pt x="19918" y="14337"/>
                </a:moveTo>
                <a:cubicBezTo>
                  <a:pt x="19918" y="14444"/>
                  <a:pt x="19920" y="14531"/>
                  <a:pt x="19893" y="14635"/>
                </a:cubicBezTo>
                <a:cubicBezTo>
                  <a:pt x="19885" y="14660"/>
                  <a:pt x="19877" y="14684"/>
                  <a:pt x="19869" y="14709"/>
                </a:cubicBezTo>
                <a:cubicBezTo>
                  <a:pt x="19985" y="14744"/>
                  <a:pt x="20121" y="14753"/>
                  <a:pt x="20241" y="14709"/>
                </a:cubicBezTo>
                <a:cubicBezTo>
                  <a:pt x="20299" y="14688"/>
                  <a:pt x="20285" y="14689"/>
                  <a:pt x="20265" y="14759"/>
                </a:cubicBezTo>
              </a:path>
              <a:path w="2952" h="1117">
                <a:moveTo>
                  <a:pt x="20216" y="14337"/>
                </a:moveTo>
                <a:cubicBezTo>
                  <a:pt x="20252" y="14530"/>
                  <a:pt x="20261" y="14733"/>
                  <a:pt x="20265" y="14932"/>
                </a:cubicBezTo>
                <a:cubicBezTo>
                  <a:pt x="20267" y="15015"/>
                  <a:pt x="20265" y="15214"/>
                  <a:pt x="20265" y="15131"/>
                </a:cubicBezTo>
              </a:path>
              <a:path w="2952" h="1117">
                <a:moveTo>
                  <a:pt x="20836" y="14684"/>
                </a:moveTo>
                <a:cubicBezTo>
                  <a:pt x="20913" y="14659"/>
                  <a:pt x="20823" y="14555"/>
                  <a:pt x="20786" y="14511"/>
                </a:cubicBezTo>
                <a:cubicBezTo>
                  <a:pt x="20721" y="14435"/>
                  <a:pt x="20675" y="14422"/>
                  <a:pt x="20588" y="14461"/>
                </a:cubicBezTo>
                <a:cubicBezTo>
                  <a:pt x="20465" y="14516"/>
                  <a:pt x="20468" y="14642"/>
                  <a:pt x="20464" y="14759"/>
                </a:cubicBezTo>
                <a:cubicBezTo>
                  <a:pt x="20460" y="14874"/>
                  <a:pt x="20547" y="14929"/>
                  <a:pt x="20662" y="14908"/>
                </a:cubicBezTo>
                <a:cubicBezTo>
                  <a:pt x="20748" y="14892"/>
                  <a:pt x="20799" y="14789"/>
                  <a:pt x="20786" y="14709"/>
                </a:cubicBezTo>
                <a:cubicBezTo>
                  <a:pt x="20778" y="14684"/>
                  <a:pt x="20770" y="14660"/>
                  <a:pt x="20762" y="14635"/>
                </a:cubicBezTo>
              </a:path>
              <a:path w="2952" h="1117">
                <a:moveTo>
                  <a:pt x="20737" y="14511"/>
                </a:moveTo>
                <a:cubicBezTo>
                  <a:pt x="20784" y="14619"/>
                  <a:pt x="20799" y="14805"/>
                  <a:pt x="20811" y="14932"/>
                </a:cubicBezTo>
                <a:cubicBezTo>
                  <a:pt x="20819" y="15026"/>
                  <a:pt x="20836" y="15111"/>
                  <a:pt x="20836" y="15205"/>
                </a:cubicBezTo>
                <a:cubicBezTo>
                  <a:pt x="20836" y="15247"/>
                  <a:pt x="20836" y="15255"/>
                  <a:pt x="20836" y="15280"/>
                </a:cubicBezTo>
              </a:path>
              <a:path w="2952" h="1117">
                <a:moveTo>
                  <a:pt x="21481" y="15056"/>
                </a:moveTo>
                <a:cubicBezTo>
                  <a:pt x="21551" y="15056"/>
                  <a:pt x="21588" y="15074"/>
                  <a:pt x="21605" y="15007"/>
                </a:cubicBezTo>
                <a:cubicBezTo>
                  <a:pt x="21543" y="14952"/>
                  <a:pt x="21447" y="14863"/>
                  <a:pt x="21357" y="14932"/>
                </a:cubicBezTo>
                <a:cubicBezTo>
                  <a:pt x="21223" y="15036"/>
                  <a:pt x="21266" y="15319"/>
                  <a:pt x="21357" y="15429"/>
                </a:cubicBezTo>
                <a:cubicBezTo>
                  <a:pt x="21470" y="15565"/>
                  <a:pt x="21711" y="15315"/>
                  <a:pt x="21779" y="15255"/>
                </a:cubicBezTo>
              </a:path>
              <a:path w="2952" h="1117">
                <a:moveTo>
                  <a:pt x="21779" y="15131"/>
                </a:moveTo>
                <a:cubicBezTo>
                  <a:pt x="21819" y="15206"/>
                  <a:pt x="21849" y="15265"/>
                  <a:pt x="21903" y="15329"/>
                </a:cubicBezTo>
                <a:cubicBezTo>
                  <a:pt x="21850" y="15260"/>
                  <a:pt x="21819" y="15175"/>
                  <a:pt x="21828" y="15081"/>
                </a:cubicBezTo>
                <a:cubicBezTo>
                  <a:pt x="21848" y="15021"/>
                  <a:pt x="21847" y="15006"/>
                  <a:pt x="21878" y="14982"/>
                </a:cubicBezTo>
                <a:cubicBezTo>
                  <a:pt x="22028" y="15028"/>
                  <a:pt x="22073" y="15128"/>
                  <a:pt x="22175" y="15230"/>
                </a:cubicBezTo>
                <a:cubicBezTo>
                  <a:pt x="22175" y="15222"/>
                  <a:pt x="22175" y="15213"/>
                  <a:pt x="22175" y="15205"/>
                </a:cubicBezTo>
                <a:cubicBezTo>
                  <a:pt x="22130" y="15114"/>
                  <a:pt x="22084" y="15005"/>
                  <a:pt x="22200" y="14932"/>
                </a:cubicBezTo>
                <a:cubicBezTo>
                  <a:pt x="22336" y="14846"/>
                  <a:pt x="22430" y="15062"/>
                  <a:pt x="22473" y="15156"/>
                </a:cubicBezTo>
                <a:cubicBezTo>
                  <a:pt x="22481" y="15181"/>
                  <a:pt x="22490" y="15205"/>
                  <a:pt x="22498" y="15230"/>
                </a:cubicBezTo>
              </a:path>
              <a:path w="2952" h="1117">
                <a:moveTo>
                  <a:pt x="22498" y="14635"/>
                </a:moveTo>
                <a:cubicBezTo>
                  <a:pt x="22513" y="14590"/>
                  <a:pt x="22586" y="14550"/>
                  <a:pt x="22647" y="14536"/>
                </a:cubicBezTo>
                <a:cubicBezTo>
                  <a:pt x="22663" y="14536"/>
                  <a:pt x="22680" y="14536"/>
                  <a:pt x="22696" y="14536"/>
                </a:cubicBezTo>
                <a:cubicBezTo>
                  <a:pt x="22726" y="14668"/>
                  <a:pt x="22665" y="14740"/>
                  <a:pt x="22597" y="14858"/>
                </a:cubicBezTo>
                <a:cubicBezTo>
                  <a:pt x="22589" y="14875"/>
                  <a:pt x="22580" y="14891"/>
                  <a:pt x="22572" y="14908"/>
                </a:cubicBezTo>
                <a:cubicBezTo>
                  <a:pt x="22639" y="14895"/>
                  <a:pt x="22734" y="14866"/>
                  <a:pt x="22796" y="14833"/>
                </a:cubicBezTo>
                <a:cubicBezTo>
                  <a:pt x="22804" y="14825"/>
                  <a:pt x="22812" y="14816"/>
                  <a:pt x="22820" y="14808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847880" y="5000760"/>
            <a:ext cx="189000" cy="233280"/>
          </a:xfrm>
          <a:custGeom>
            <a:avLst/>
            <a:gdLst/>
            <a:ahLst/>
            <a:rect l="l" t="t" r="r" b="b"/>
            <a:pathLst>
              <a:path w="521" h="646">
                <a:moveTo>
                  <a:pt x="5135" y="14039"/>
                </a:moveTo>
                <a:cubicBezTo>
                  <a:pt x="5149" y="13998"/>
                  <a:pt x="5205" y="13984"/>
                  <a:pt x="5259" y="13965"/>
                </a:cubicBezTo>
                <a:cubicBezTo>
                  <a:pt x="5285" y="13956"/>
                  <a:pt x="5430" y="13875"/>
                  <a:pt x="5457" y="13891"/>
                </a:cubicBezTo>
                <a:cubicBezTo>
                  <a:pt x="5634" y="13995"/>
                  <a:pt x="5603" y="14296"/>
                  <a:pt x="5631" y="14461"/>
                </a:cubicBezTo>
                <a:cubicBezTo>
                  <a:pt x="5650" y="14519"/>
                  <a:pt x="5658" y="14562"/>
                  <a:pt x="5655" y="14511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527200" y="5616720"/>
            <a:ext cx="135000" cy="187200"/>
          </a:xfrm>
          <a:custGeom>
            <a:avLst/>
            <a:gdLst/>
            <a:ahLst/>
            <a:rect l="l" t="t" r="r" b="b"/>
            <a:pathLst>
              <a:path w="373" h="522">
                <a:moveTo>
                  <a:pt x="7020" y="15652"/>
                </a:moveTo>
                <a:cubicBezTo>
                  <a:pt x="7116" y="15652"/>
                  <a:pt x="7200" y="15655"/>
                  <a:pt x="7293" y="15627"/>
                </a:cubicBezTo>
                <a:cubicBezTo>
                  <a:pt x="7353" y="15607"/>
                  <a:pt x="7368" y="15588"/>
                  <a:pt x="7392" y="15627"/>
                </a:cubicBezTo>
                <a:cubicBezTo>
                  <a:pt x="7392" y="15801"/>
                  <a:pt x="7392" y="16272"/>
                  <a:pt x="7392" y="16098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Unit 7: Measuremen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jective:  Students will find the area of a triang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513000" y="33012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ive:  Students will find the area of a triang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minder: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rea of a rectangle = Length x wid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rea of a parallelogram: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rea = base x heigh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= </a:t>
            </a:r>
            <a:r>
              <a:rPr b="0" lang="en-US" sz="3200" spc="-1" strike="noStrike">
                <a:solidFill>
                  <a:srgbClr val="ff66ff"/>
                </a:solidFill>
                <a:latin typeface="Comic Sans MS"/>
              </a:rPr>
              <a:t>b</a:t>
            </a:r>
            <a:r>
              <a:rPr b="0" lang="en-US" sz="3200" spc="-1" strike="noStrike">
                <a:solidFill>
                  <a:srgbClr val="00ff00"/>
                </a:solidFill>
                <a:latin typeface="Comic Sans MS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105520" y="3962520"/>
            <a:ext cx="3200400" cy="1828800"/>
          </a:xfrm>
          <a:prstGeom prst="parallelogram">
            <a:avLst>
              <a:gd name="adj" fmla="val 61177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48520" y="396252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248520" y="5410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629400" y="5410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44956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Comic Sans MS"/>
              </a:rPr>
              <a:t>2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943600" y="58672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ff"/>
                </a:solidFill>
                <a:latin typeface="Comic Sans MS"/>
              </a:rPr>
              <a:t>5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09760" y="6242040"/>
            <a:ext cx="1440" cy="17640"/>
          </a:xfrm>
          <a:custGeom>
            <a:avLst/>
            <a:gdLst/>
            <a:ahLst/>
            <a:rect l="l" t="t" r="r" b="b"/>
            <a:pathLst>
              <a:path w="1" h="51">
                <a:moveTo>
                  <a:pt x="1414" y="17338"/>
                </a:moveTo>
                <a:cubicBezTo>
                  <a:pt x="1414" y="17363"/>
                  <a:pt x="1414" y="17371"/>
                  <a:pt x="1414" y="17388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518160" y="5991120"/>
            <a:ext cx="760680" cy="312840"/>
          </a:xfrm>
          <a:custGeom>
            <a:avLst/>
            <a:gdLst/>
            <a:ahLst/>
            <a:rect l="l" t="t" r="r" b="b"/>
            <a:pathLst>
              <a:path w="2110" h="869">
                <a:moveTo>
                  <a:pt x="18107" y="16669"/>
                </a:moveTo>
                <a:cubicBezTo>
                  <a:pt x="18143" y="16598"/>
                  <a:pt x="18148" y="16763"/>
                  <a:pt x="18157" y="16842"/>
                </a:cubicBezTo>
                <a:cubicBezTo>
                  <a:pt x="18179" y="17034"/>
                  <a:pt x="18182" y="17220"/>
                  <a:pt x="18182" y="17413"/>
                </a:cubicBezTo>
                <a:cubicBezTo>
                  <a:pt x="18182" y="17421"/>
                  <a:pt x="18182" y="17430"/>
                  <a:pt x="18182" y="17438"/>
                </a:cubicBezTo>
                <a:cubicBezTo>
                  <a:pt x="18203" y="17355"/>
                  <a:pt x="18244" y="17250"/>
                  <a:pt x="18281" y="17165"/>
                </a:cubicBezTo>
                <a:cubicBezTo>
                  <a:pt x="18330" y="17054"/>
                  <a:pt x="18406" y="16900"/>
                  <a:pt x="18554" y="16991"/>
                </a:cubicBezTo>
                <a:cubicBezTo>
                  <a:pt x="18683" y="17070"/>
                  <a:pt x="18680" y="17251"/>
                  <a:pt x="18604" y="17363"/>
                </a:cubicBezTo>
                <a:cubicBezTo>
                  <a:pt x="18580" y="17398"/>
                  <a:pt x="18366" y="17583"/>
                  <a:pt x="18331" y="17512"/>
                </a:cubicBezTo>
                <a:cubicBezTo>
                  <a:pt x="18323" y="17479"/>
                  <a:pt x="18314" y="17446"/>
                  <a:pt x="18306" y="17413"/>
                </a:cubicBezTo>
              </a:path>
              <a:path w="2110" h="869">
                <a:moveTo>
                  <a:pt x="19000" y="17190"/>
                </a:moveTo>
                <a:cubicBezTo>
                  <a:pt x="19010" y="17149"/>
                  <a:pt x="19040" y="17081"/>
                  <a:pt x="19000" y="17041"/>
                </a:cubicBezTo>
                <a:cubicBezTo>
                  <a:pt x="18875" y="16915"/>
                  <a:pt x="18793" y="17075"/>
                  <a:pt x="18777" y="17190"/>
                </a:cubicBezTo>
                <a:cubicBezTo>
                  <a:pt x="18768" y="17250"/>
                  <a:pt x="18776" y="17476"/>
                  <a:pt x="18901" y="17413"/>
                </a:cubicBezTo>
                <a:cubicBezTo>
                  <a:pt x="18981" y="17373"/>
                  <a:pt x="18970" y="17286"/>
                  <a:pt x="18976" y="17214"/>
                </a:cubicBezTo>
                <a:cubicBezTo>
                  <a:pt x="18918" y="17177"/>
                  <a:pt x="18982" y="17291"/>
                  <a:pt x="19000" y="17338"/>
                </a:cubicBezTo>
                <a:cubicBezTo>
                  <a:pt x="19044" y="17451"/>
                  <a:pt x="19106" y="17388"/>
                  <a:pt x="19174" y="17338"/>
                </a:cubicBezTo>
              </a:path>
              <a:path w="2110" h="869">
                <a:moveTo>
                  <a:pt x="19372" y="16991"/>
                </a:moveTo>
                <a:cubicBezTo>
                  <a:pt x="19294" y="17021"/>
                  <a:pt x="19279" y="17070"/>
                  <a:pt x="19224" y="17140"/>
                </a:cubicBezTo>
                <a:cubicBezTo>
                  <a:pt x="19304" y="17156"/>
                  <a:pt x="19409" y="17180"/>
                  <a:pt x="19472" y="17239"/>
                </a:cubicBezTo>
                <a:cubicBezTo>
                  <a:pt x="19562" y="17325"/>
                  <a:pt x="19372" y="17405"/>
                  <a:pt x="19323" y="17438"/>
                </a:cubicBezTo>
                <a:cubicBezTo>
                  <a:pt x="19265" y="17438"/>
                  <a:pt x="19248" y="17430"/>
                  <a:pt x="19273" y="17363"/>
                </a:cubicBezTo>
              </a:path>
              <a:path w="2110" h="869">
                <a:moveTo>
                  <a:pt x="19670" y="17165"/>
                </a:moveTo>
                <a:cubicBezTo>
                  <a:pt x="19772" y="17196"/>
                  <a:pt x="19883" y="17208"/>
                  <a:pt x="19993" y="17214"/>
                </a:cubicBezTo>
                <a:cubicBezTo>
                  <a:pt x="20017" y="17214"/>
                  <a:pt x="20025" y="17214"/>
                  <a:pt x="20017" y="17239"/>
                </a:cubicBezTo>
                <a:cubicBezTo>
                  <a:pt x="20005" y="17185"/>
                  <a:pt x="19970" y="17019"/>
                  <a:pt x="19893" y="17016"/>
                </a:cubicBezTo>
                <a:cubicBezTo>
                  <a:pt x="19763" y="17010"/>
                  <a:pt x="19593" y="17154"/>
                  <a:pt x="19596" y="17289"/>
                </a:cubicBezTo>
                <a:cubicBezTo>
                  <a:pt x="19601" y="17485"/>
                  <a:pt x="19969" y="17473"/>
                  <a:pt x="20092" y="17462"/>
                </a:cubicBezTo>
                <a:cubicBezTo>
                  <a:pt x="20169" y="17443"/>
                  <a:pt x="20187" y="17451"/>
                  <a:pt x="20216" y="17413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705640" y="368784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5850" y="10244"/>
                </a:moveTo>
                <a:lnTo>
                  <a:pt x="15850" y="10244"/>
                </a:lnTo>
              </a:path>
            </a:pathLst>
          </a:custGeom>
          <a:noFill/>
          <a:ln cap="rnd" w="34920">
            <a:solidFill>
              <a:srgbClr val="ffff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242040" y="3929040"/>
            <a:ext cx="544680" cy="1857240"/>
          </a:xfrm>
          <a:custGeom>
            <a:avLst/>
            <a:gdLst/>
            <a:ahLst/>
            <a:rect l="l" t="t" r="r" b="b"/>
            <a:pathLst>
              <a:path w="1515" h="5160">
                <a:moveTo>
                  <a:pt x="17388" y="11088"/>
                </a:moveTo>
                <a:cubicBezTo>
                  <a:pt x="17388" y="11039"/>
                  <a:pt x="17347" y="11061"/>
                  <a:pt x="17338" y="11088"/>
                </a:cubicBezTo>
              </a:path>
              <a:path w="1515" h="5160">
                <a:moveTo>
                  <a:pt x="17338" y="15999"/>
                </a:moveTo>
                <a:cubicBezTo>
                  <a:pt x="17346" y="15999"/>
                  <a:pt x="17355" y="15999"/>
                  <a:pt x="17363" y="15999"/>
                </a:cubicBezTo>
                <a:cubicBezTo>
                  <a:pt x="17363" y="16024"/>
                  <a:pt x="17363" y="16048"/>
                  <a:pt x="17363" y="16073"/>
                </a:cubicBezTo>
                <a:cubicBezTo>
                  <a:pt x="17363" y="15973"/>
                  <a:pt x="17394" y="15831"/>
                  <a:pt x="17388" y="15751"/>
                </a:cubicBezTo>
                <a:cubicBezTo>
                  <a:pt x="17384" y="15698"/>
                  <a:pt x="17357" y="15679"/>
                  <a:pt x="17363" y="15627"/>
                </a:cubicBezTo>
                <a:cubicBezTo>
                  <a:pt x="17368" y="15586"/>
                  <a:pt x="17380" y="15545"/>
                  <a:pt x="17388" y="15503"/>
                </a:cubicBezTo>
                <a:cubicBezTo>
                  <a:pt x="17393" y="15476"/>
                  <a:pt x="17411" y="15422"/>
                  <a:pt x="17413" y="15404"/>
                </a:cubicBezTo>
                <a:cubicBezTo>
                  <a:pt x="17424" y="15309"/>
                  <a:pt x="17430" y="15189"/>
                  <a:pt x="17438" y="15106"/>
                </a:cubicBezTo>
                <a:cubicBezTo>
                  <a:pt x="17444" y="15037"/>
                  <a:pt x="17409" y="14931"/>
                  <a:pt x="17413" y="14883"/>
                </a:cubicBezTo>
                <a:cubicBezTo>
                  <a:pt x="17421" y="14875"/>
                  <a:pt x="17430" y="14866"/>
                  <a:pt x="17438" y="14858"/>
                </a:cubicBezTo>
                <a:cubicBezTo>
                  <a:pt x="17437" y="14851"/>
                  <a:pt x="17420" y="14750"/>
                  <a:pt x="17413" y="14709"/>
                </a:cubicBezTo>
                <a:cubicBezTo>
                  <a:pt x="17406" y="14671"/>
                  <a:pt x="17395" y="14641"/>
                  <a:pt x="17388" y="14610"/>
                </a:cubicBezTo>
                <a:cubicBezTo>
                  <a:pt x="17383" y="14587"/>
                  <a:pt x="17364" y="14524"/>
                  <a:pt x="17363" y="14511"/>
                </a:cubicBezTo>
                <a:cubicBezTo>
                  <a:pt x="17356" y="14443"/>
                  <a:pt x="17344" y="14376"/>
                  <a:pt x="17338" y="14312"/>
                </a:cubicBezTo>
                <a:cubicBezTo>
                  <a:pt x="17328" y="14201"/>
                  <a:pt x="17354" y="14085"/>
                  <a:pt x="17363" y="13990"/>
                </a:cubicBezTo>
                <a:cubicBezTo>
                  <a:pt x="17371" y="13902"/>
                  <a:pt x="17382" y="13792"/>
                  <a:pt x="17388" y="13717"/>
                </a:cubicBezTo>
                <a:cubicBezTo>
                  <a:pt x="17398" y="13596"/>
                  <a:pt x="17404" y="13452"/>
                  <a:pt x="17413" y="13345"/>
                </a:cubicBezTo>
                <a:cubicBezTo>
                  <a:pt x="17441" y="13000"/>
                  <a:pt x="17413" y="12644"/>
                  <a:pt x="17438" y="12303"/>
                </a:cubicBezTo>
                <a:cubicBezTo>
                  <a:pt x="17442" y="12252"/>
                  <a:pt x="17458" y="12193"/>
                  <a:pt x="17462" y="12154"/>
                </a:cubicBezTo>
                <a:cubicBezTo>
                  <a:pt x="17476" y="12028"/>
                  <a:pt x="17448" y="11893"/>
                  <a:pt x="17438" y="11782"/>
                </a:cubicBezTo>
                <a:cubicBezTo>
                  <a:pt x="17432" y="11710"/>
                  <a:pt x="17426" y="11645"/>
                  <a:pt x="17413" y="11584"/>
                </a:cubicBezTo>
                <a:cubicBezTo>
                  <a:pt x="17403" y="11536"/>
                  <a:pt x="17402" y="11483"/>
                  <a:pt x="17388" y="11435"/>
                </a:cubicBezTo>
                <a:cubicBezTo>
                  <a:pt x="17378" y="11403"/>
                  <a:pt x="17367" y="11367"/>
                  <a:pt x="17363" y="11336"/>
                </a:cubicBezTo>
                <a:cubicBezTo>
                  <a:pt x="17358" y="11296"/>
                  <a:pt x="17342" y="11242"/>
                  <a:pt x="17338" y="11212"/>
                </a:cubicBezTo>
                <a:cubicBezTo>
                  <a:pt x="17330" y="11148"/>
                  <a:pt x="17338" y="11077"/>
                  <a:pt x="17338" y="11013"/>
                </a:cubicBezTo>
                <a:cubicBezTo>
                  <a:pt x="17373" y="10990"/>
                  <a:pt x="17355" y="11013"/>
                  <a:pt x="17363" y="10964"/>
                </a:cubicBezTo>
                <a:cubicBezTo>
                  <a:pt x="17398" y="10941"/>
                  <a:pt x="17380" y="10964"/>
                  <a:pt x="17388" y="10914"/>
                </a:cubicBezTo>
                <a:cubicBezTo>
                  <a:pt x="17388" y="10942"/>
                  <a:pt x="17386" y="10953"/>
                  <a:pt x="17363" y="10964"/>
                </a:cubicBezTo>
              </a:path>
              <a:path w="1515" h="5160">
                <a:moveTo>
                  <a:pt x="17686" y="12799"/>
                </a:moveTo>
                <a:cubicBezTo>
                  <a:pt x="17686" y="12754"/>
                  <a:pt x="17693" y="12727"/>
                  <a:pt x="17735" y="12700"/>
                </a:cubicBezTo>
                <a:cubicBezTo>
                  <a:pt x="17795" y="12661"/>
                  <a:pt x="17848" y="12582"/>
                  <a:pt x="17909" y="12551"/>
                </a:cubicBezTo>
                <a:cubicBezTo>
                  <a:pt x="17958" y="12526"/>
                  <a:pt x="17999" y="12588"/>
                  <a:pt x="18008" y="12626"/>
                </a:cubicBezTo>
                <a:cubicBezTo>
                  <a:pt x="18023" y="12690"/>
                  <a:pt x="17999" y="12751"/>
                  <a:pt x="17959" y="12799"/>
                </a:cubicBezTo>
                <a:cubicBezTo>
                  <a:pt x="17901" y="12870"/>
                  <a:pt x="17858" y="12920"/>
                  <a:pt x="17810" y="12998"/>
                </a:cubicBezTo>
                <a:cubicBezTo>
                  <a:pt x="17764" y="13074"/>
                  <a:pt x="17722" y="13138"/>
                  <a:pt x="17711" y="13221"/>
                </a:cubicBezTo>
                <a:cubicBezTo>
                  <a:pt x="17711" y="13160"/>
                  <a:pt x="17726" y="13107"/>
                  <a:pt x="17785" y="13072"/>
                </a:cubicBezTo>
                <a:cubicBezTo>
                  <a:pt x="17857" y="13029"/>
                  <a:pt x="17959" y="13001"/>
                  <a:pt x="18033" y="13047"/>
                </a:cubicBezTo>
                <a:cubicBezTo>
                  <a:pt x="18067" y="13068"/>
                  <a:pt x="18085" y="13089"/>
                  <a:pt x="18107" y="13122"/>
                </a:cubicBezTo>
                <a:cubicBezTo>
                  <a:pt x="18107" y="13146"/>
                  <a:pt x="18107" y="13154"/>
                  <a:pt x="18132" y="13146"/>
                </a:cubicBezTo>
              </a:path>
              <a:path w="1515" h="5160">
                <a:moveTo>
                  <a:pt x="18281" y="12849"/>
                </a:moveTo>
                <a:cubicBezTo>
                  <a:pt x="18281" y="12948"/>
                  <a:pt x="18281" y="13047"/>
                  <a:pt x="18281" y="13146"/>
                </a:cubicBezTo>
                <a:cubicBezTo>
                  <a:pt x="18281" y="13203"/>
                  <a:pt x="18274" y="12977"/>
                  <a:pt x="18281" y="12948"/>
                </a:cubicBezTo>
                <a:cubicBezTo>
                  <a:pt x="18293" y="12894"/>
                  <a:pt x="18355" y="12841"/>
                  <a:pt x="18405" y="12824"/>
                </a:cubicBezTo>
                <a:cubicBezTo>
                  <a:pt x="18488" y="12796"/>
                  <a:pt x="18513" y="12927"/>
                  <a:pt x="18529" y="12973"/>
                </a:cubicBezTo>
                <a:cubicBezTo>
                  <a:pt x="18548" y="13029"/>
                  <a:pt x="18554" y="13205"/>
                  <a:pt x="18554" y="13146"/>
                </a:cubicBezTo>
                <a:cubicBezTo>
                  <a:pt x="18554" y="13138"/>
                  <a:pt x="18554" y="13130"/>
                  <a:pt x="18554" y="13122"/>
                </a:cubicBezTo>
                <a:cubicBezTo>
                  <a:pt x="18536" y="13069"/>
                  <a:pt x="18541" y="12984"/>
                  <a:pt x="18579" y="12923"/>
                </a:cubicBezTo>
                <a:cubicBezTo>
                  <a:pt x="18608" y="12877"/>
                  <a:pt x="18665" y="12814"/>
                  <a:pt x="18728" y="12824"/>
                </a:cubicBezTo>
                <a:cubicBezTo>
                  <a:pt x="18780" y="12832"/>
                  <a:pt x="18819" y="12924"/>
                  <a:pt x="18827" y="12973"/>
                </a:cubicBezTo>
                <a:cubicBezTo>
                  <a:pt x="18838" y="13035"/>
                  <a:pt x="18846" y="13111"/>
                  <a:pt x="18852" y="13171"/>
                </a:cubicBezTo>
                <a:cubicBezTo>
                  <a:pt x="18855" y="13204"/>
                  <a:pt x="18852" y="13238"/>
                  <a:pt x="18852" y="13271"/>
                </a:cubicBezTo>
              </a:path>
            </a:pathLst>
          </a:custGeom>
          <a:noFill/>
          <a:ln cap="rnd" w="34920">
            <a:solidFill>
              <a:srgbClr val="ffff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715080" y="4464000"/>
            <a:ext cx="777960" cy="750960"/>
          </a:xfrm>
          <a:custGeom>
            <a:avLst/>
            <a:gdLst/>
            <a:ahLst/>
            <a:rect l="l" t="t" r="r" b="b"/>
            <a:pathLst>
              <a:path w="2159" h="2085">
                <a:moveTo>
                  <a:pt x="18678" y="13767"/>
                </a:moveTo>
                <a:cubicBezTo>
                  <a:pt x="18608" y="13789"/>
                  <a:pt x="18683" y="13892"/>
                  <a:pt x="18703" y="13940"/>
                </a:cubicBezTo>
                <a:cubicBezTo>
                  <a:pt x="18777" y="14113"/>
                  <a:pt x="18863" y="14350"/>
                  <a:pt x="19000" y="14486"/>
                </a:cubicBezTo>
                <a:cubicBezTo>
                  <a:pt x="19000" y="14478"/>
                  <a:pt x="19000" y="14469"/>
                  <a:pt x="19000" y="14461"/>
                </a:cubicBezTo>
                <a:cubicBezTo>
                  <a:pt x="18925" y="14364"/>
                  <a:pt x="18848" y="14226"/>
                  <a:pt x="18901" y="14089"/>
                </a:cubicBezTo>
                <a:cubicBezTo>
                  <a:pt x="18929" y="14015"/>
                  <a:pt x="19040" y="13986"/>
                  <a:pt x="19100" y="14039"/>
                </a:cubicBezTo>
                <a:cubicBezTo>
                  <a:pt x="19203" y="14130"/>
                  <a:pt x="19228" y="14273"/>
                  <a:pt x="19273" y="14387"/>
                </a:cubicBezTo>
                <a:cubicBezTo>
                  <a:pt x="19273" y="14362"/>
                  <a:pt x="19273" y="14354"/>
                  <a:pt x="19273" y="14337"/>
                </a:cubicBezTo>
              </a:path>
              <a:path w="2159" h="2085">
                <a:moveTo>
                  <a:pt x="19248" y="13990"/>
                </a:moveTo>
                <a:cubicBezTo>
                  <a:pt x="19277" y="13951"/>
                  <a:pt x="19345" y="13854"/>
                  <a:pt x="19372" y="13841"/>
                </a:cubicBezTo>
                <a:cubicBezTo>
                  <a:pt x="19425" y="13814"/>
                  <a:pt x="19393" y="13765"/>
                  <a:pt x="19348" y="13742"/>
                </a:cubicBezTo>
                <a:cubicBezTo>
                  <a:pt x="19307" y="13722"/>
                  <a:pt x="19301" y="13713"/>
                  <a:pt x="19273" y="13717"/>
                </a:cubicBezTo>
                <a:cubicBezTo>
                  <a:pt x="19239" y="13853"/>
                  <a:pt x="19214" y="13943"/>
                  <a:pt x="19323" y="14039"/>
                </a:cubicBezTo>
                <a:cubicBezTo>
                  <a:pt x="19390" y="14098"/>
                  <a:pt x="19530" y="14147"/>
                  <a:pt x="19621" y="14114"/>
                </a:cubicBezTo>
                <a:cubicBezTo>
                  <a:pt x="19655" y="14079"/>
                  <a:pt x="19668" y="14056"/>
                  <a:pt x="19670" y="14015"/>
                </a:cubicBezTo>
              </a:path>
              <a:path w="2159" h="2085">
                <a:moveTo>
                  <a:pt x="19670" y="13717"/>
                </a:moveTo>
                <a:cubicBezTo>
                  <a:pt x="19682" y="13753"/>
                  <a:pt x="19751" y="13852"/>
                  <a:pt x="19794" y="13891"/>
                </a:cubicBezTo>
                <a:cubicBezTo>
                  <a:pt x="19802" y="13891"/>
                  <a:pt x="19811" y="13891"/>
                  <a:pt x="19819" y="13891"/>
                </a:cubicBezTo>
              </a:path>
              <a:path w="2159" h="2085">
                <a:moveTo>
                  <a:pt x="19447" y="13370"/>
                </a:moveTo>
                <a:lnTo>
                  <a:pt x="19447" y="13370"/>
                </a:lnTo>
              </a:path>
              <a:path w="2159" h="2085">
                <a:moveTo>
                  <a:pt x="19794" y="13370"/>
                </a:moveTo>
                <a:cubicBezTo>
                  <a:pt x="19845" y="13403"/>
                  <a:pt x="19812" y="13541"/>
                  <a:pt x="19844" y="13618"/>
                </a:cubicBezTo>
                <a:cubicBezTo>
                  <a:pt x="19887" y="13683"/>
                  <a:pt x="19893" y="13703"/>
                  <a:pt x="19943" y="13717"/>
                </a:cubicBezTo>
                <a:cubicBezTo>
                  <a:pt x="19996" y="13612"/>
                  <a:pt x="19996" y="13560"/>
                  <a:pt x="19968" y="13444"/>
                </a:cubicBezTo>
                <a:cubicBezTo>
                  <a:pt x="19949" y="13370"/>
                  <a:pt x="19941" y="13363"/>
                  <a:pt x="19943" y="13320"/>
                </a:cubicBezTo>
                <a:cubicBezTo>
                  <a:pt x="20022" y="13383"/>
                  <a:pt x="20164" y="13562"/>
                  <a:pt x="20216" y="13667"/>
                </a:cubicBezTo>
                <a:cubicBezTo>
                  <a:pt x="20281" y="13797"/>
                  <a:pt x="20324" y="14075"/>
                  <a:pt x="20166" y="14163"/>
                </a:cubicBezTo>
                <a:cubicBezTo>
                  <a:pt x="20036" y="14236"/>
                  <a:pt x="20013" y="14046"/>
                  <a:pt x="19993" y="13990"/>
                </a:cubicBezTo>
              </a:path>
              <a:path w="2159" h="2085">
                <a:moveTo>
                  <a:pt x="19943" y="12998"/>
                </a:moveTo>
                <a:cubicBezTo>
                  <a:pt x="19920" y="12998"/>
                  <a:pt x="20053" y="13172"/>
                  <a:pt x="20092" y="13221"/>
                </a:cubicBezTo>
                <a:cubicBezTo>
                  <a:pt x="20150" y="13279"/>
                  <a:pt x="20158" y="13287"/>
                  <a:pt x="20191" y="13320"/>
                </a:cubicBezTo>
                <a:cubicBezTo>
                  <a:pt x="20170" y="13362"/>
                  <a:pt x="20131" y="13238"/>
                  <a:pt x="20117" y="13196"/>
                </a:cubicBezTo>
                <a:cubicBezTo>
                  <a:pt x="20083" y="13092"/>
                  <a:pt x="20098" y="13043"/>
                  <a:pt x="20117" y="12948"/>
                </a:cubicBezTo>
                <a:cubicBezTo>
                  <a:pt x="20233" y="12972"/>
                  <a:pt x="20257" y="13011"/>
                  <a:pt x="20340" y="13097"/>
                </a:cubicBezTo>
                <a:cubicBezTo>
                  <a:pt x="20416" y="13176"/>
                  <a:pt x="20464" y="13251"/>
                  <a:pt x="20340" y="13072"/>
                </a:cubicBezTo>
              </a:path>
              <a:path w="2159" h="2085">
                <a:moveTo>
                  <a:pt x="20166" y="12402"/>
                </a:moveTo>
                <a:cubicBezTo>
                  <a:pt x="20248" y="12423"/>
                  <a:pt x="20319" y="12532"/>
                  <a:pt x="20365" y="12601"/>
                </a:cubicBezTo>
                <a:cubicBezTo>
                  <a:pt x="20457" y="12737"/>
                  <a:pt x="20517" y="12826"/>
                  <a:pt x="20662" y="12898"/>
                </a:cubicBezTo>
                <a:cubicBezTo>
                  <a:pt x="20679" y="12906"/>
                  <a:pt x="20695" y="12915"/>
                  <a:pt x="20712" y="12923"/>
                </a:cubicBezTo>
                <a:cubicBezTo>
                  <a:pt x="20750" y="12876"/>
                  <a:pt x="20773" y="12821"/>
                  <a:pt x="20811" y="12774"/>
                </a:cubicBezTo>
              </a:path>
              <a:path w="2159" h="2085">
                <a:moveTo>
                  <a:pt x="20241" y="12874"/>
                </a:moveTo>
                <a:cubicBezTo>
                  <a:pt x="20301" y="12800"/>
                  <a:pt x="20360" y="12728"/>
                  <a:pt x="20414" y="12650"/>
                </a:cubicBezTo>
                <a:cubicBezTo>
                  <a:pt x="20457" y="12588"/>
                  <a:pt x="20490" y="12495"/>
                  <a:pt x="20563" y="12477"/>
                </a:cubicBezTo>
              </a:path>
            </a:pathLst>
          </a:custGeom>
          <a:noFill/>
          <a:ln cap="rnd" w="34920">
            <a:solidFill>
              <a:srgbClr val="ffff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231920" y="4483080"/>
            <a:ext cx="1278000" cy="571680"/>
          </a:xfrm>
          <a:custGeom>
            <a:avLst/>
            <a:gdLst/>
            <a:ahLst/>
            <a:rect l="l" t="t" r="r" b="b"/>
            <a:pathLst>
              <a:path w="3548" h="1588">
                <a:moveTo>
                  <a:pt x="5011" y="12576"/>
                </a:moveTo>
                <a:cubicBezTo>
                  <a:pt x="4984" y="12588"/>
                  <a:pt x="4895" y="12636"/>
                  <a:pt x="4837" y="12650"/>
                </a:cubicBezTo>
                <a:cubicBezTo>
                  <a:pt x="4771" y="12665"/>
                  <a:pt x="4705" y="12692"/>
                  <a:pt x="4638" y="12700"/>
                </a:cubicBezTo>
                <a:cubicBezTo>
                  <a:pt x="4563" y="12709"/>
                  <a:pt x="4513" y="12720"/>
                  <a:pt x="4440" y="12725"/>
                </a:cubicBezTo>
                <a:cubicBezTo>
                  <a:pt x="4320" y="12734"/>
                  <a:pt x="4211" y="12729"/>
                  <a:pt x="4093" y="12750"/>
                </a:cubicBezTo>
                <a:cubicBezTo>
                  <a:pt x="3993" y="12767"/>
                  <a:pt x="3895" y="12779"/>
                  <a:pt x="3795" y="12799"/>
                </a:cubicBezTo>
                <a:cubicBezTo>
                  <a:pt x="3732" y="12812"/>
                  <a:pt x="3660" y="12808"/>
                  <a:pt x="3597" y="12824"/>
                </a:cubicBezTo>
                <a:cubicBezTo>
                  <a:pt x="3559" y="12834"/>
                  <a:pt x="3538" y="12842"/>
                  <a:pt x="3497" y="12849"/>
                </a:cubicBezTo>
                <a:cubicBezTo>
                  <a:pt x="3481" y="12849"/>
                  <a:pt x="3464" y="12849"/>
                  <a:pt x="3448" y="12849"/>
                </a:cubicBezTo>
                <a:cubicBezTo>
                  <a:pt x="3452" y="12929"/>
                  <a:pt x="3413" y="12827"/>
                  <a:pt x="3448" y="12998"/>
                </a:cubicBezTo>
                <a:cubicBezTo>
                  <a:pt x="3477" y="13137"/>
                  <a:pt x="3510" y="13278"/>
                  <a:pt x="3522" y="13419"/>
                </a:cubicBezTo>
                <a:cubicBezTo>
                  <a:pt x="3536" y="13587"/>
                  <a:pt x="3511" y="13753"/>
                  <a:pt x="3497" y="13915"/>
                </a:cubicBezTo>
                <a:cubicBezTo>
                  <a:pt x="3497" y="13993"/>
                  <a:pt x="3513" y="14011"/>
                  <a:pt x="3473" y="14039"/>
                </a:cubicBezTo>
                <a:cubicBezTo>
                  <a:pt x="3572" y="14019"/>
                  <a:pt x="3648" y="13998"/>
                  <a:pt x="3746" y="13965"/>
                </a:cubicBezTo>
                <a:cubicBezTo>
                  <a:pt x="3859" y="13927"/>
                  <a:pt x="3977" y="13902"/>
                  <a:pt x="4093" y="13891"/>
                </a:cubicBezTo>
                <a:cubicBezTo>
                  <a:pt x="4209" y="13880"/>
                  <a:pt x="4326" y="13850"/>
                  <a:pt x="4440" y="13841"/>
                </a:cubicBezTo>
                <a:cubicBezTo>
                  <a:pt x="4603" y="13828"/>
                  <a:pt x="4774" y="13826"/>
                  <a:pt x="4936" y="13816"/>
                </a:cubicBezTo>
                <a:cubicBezTo>
                  <a:pt x="5144" y="13803"/>
                  <a:pt x="5346" y="13791"/>
                  <a:pt x="5556" y="13791"/>
                </a:cubicBezTo>
                <a:cubicBezTo>
                  <a:pt x="5774" y="13791"/>
                  <a:pt x="5987" y="13799"/>
                  <a:pt x="6201" y="13816"/>
                </a:cubicBezTo>
                <a:cubicBezTo>
                  <a:pt x="6454" y="13836"/>
                  <a:pt x="6716" y="13816"/>
                  <a:pt x="6970" y="13816"/>
                </a:cubicBezTo>
                <a:cubicBezTo>
                  <a:pt x="6957" y="13747"/>
                  <a:pt x="6947" y="13693"/>
                  <a:pt x="6945" y="13618"/>
                </a:cubicBezTo>
                <a:cubicBezTo>
                  <a:pt x="6943" y="13507"/>
                  <a:pt x="6927" y="13404"/>
                  <a:pt x="6921" y="13295"/>
                </a:cubicBezTo>
                <a:cubicBezTo>
                  <a:pt x="6916" y="13206"/>
                  <a:pt x="6912" y="13131"/>
                  <a:pt x="6896" y="13047"/>
                </a:cubicBezTo>
                <a:cubicBezTo>
                  <a:pt x="6883" y="12979"/>
                  <a:pt x="6876" y="12918"/>
                  <a:pt x="6871" y="12849"/>
                </a:cubicBezTo>
                <a:cubicBezTo>
                  <a:pt x="6862" y="12736"/>
                  <a:pt x="6882" y="12635"/>
                  <a:pt x="6896" y="12526"/>
                </a:cubicBezTo>
                <a:cubicBezTo>
                  <a:pt x="6896" y="12510"/>
                  <a:pt x="6896" y="12493"/>
                  <a:pt x="6896" y="12477"/>
                </a:cubicBezTo>
                <a:cubicBezTo>
                  <a:pt x="6834" y="12463"/>
                  <a:pt x="6788" y="12454"/>
                  <a:pt x="6722" y="12452"/>
                </a:cubicBezTo>
                <a:cubicBezTo>
                  <a:pt x="6559" y="12447"/>
                  <a:pt x="6409" y="12473"/>
                  <a:pt x="6251" y="12477"/>
                </a:cubicBezTo>
                <a:cubicBezTo>
                  <a:pt x="6165" y="12479"/>
                  <a:pt x="6089" y="12496"/>
                  <a:pt x="6003" y="12502"/>
                </a:cubicBezTo>
                <a:cubicBezTo>
                  <a:pt x="5935" y="12507"/>
                  <a:pt x="5892" y="12521"/>
                  <a:pt x="5829" y="12526"/>
                </a:cubicBezTo>
                <a:cubicBezTo>
                  <a:pt x="5751" y="12532"/>
                  <a:pt x="5700" y="12545"/>
                  <a:pt x="5631" y="12551"/>
                </a:cubicBezTo>
                <a:cubicBezTo>
                  <a:pt x="5427" y="12569"/>
                  <a:pt x="5208" y="12561"/>
                  <a:pt x="5011" y="12576"/>
                </a:cubicBezTo>
                <a:cubicBezTo>
                  <a:pt x="4934" y="12582"/>
                  <a:pt x="4861" y="12594"/>
                  <a:pt x="4787" y="12601"/>
                </a:cubicBezTo>
                <a:cubicBezTo>
                  <a:pt x="4735" y="12606"/>
                  <a:pt x="4677" y="12621"/>
                  <a:pt x="4638" y="12626"/>
                </a:cubicBezTo>
                <a:cubicBezTo>
                  <a:pt x="4597" y="12626"/>
                  <a:pt x="4589" y="12626"/>
                  <a:pt x="4564" y="12626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204920" y="5259240"/>
            <a:ext cx="509760" cy="304920"/>
          </a:xfrm>
          <a:custGeom>
            <a:avLst/>
            <a:gdLst/>
            <a:ahLst/>
            <a:rect l="l" t="t" r="r" b="b"/>
            <a:pathLst>
              <a:path w="1414" h="844">
                <a:moveTo>
                  <a:pt x="3770" y="14660"/>
                </a:moveTo>
                <a:cubicBezTo>
                  <a:pt x="3747" y="14775"/>
                  <a:pt x="3651" y="14930"/>
                  <a:pt x="3597" y="15032"/>
                </a:cubicBezTo>
                <a:cubicBezTo>
                  <a:pt x="3524" y="15170"/>
                  <a:pt x="3456" y="15300"/>
                  <a:pt x="3373" y="15429"/>
                </a:cubicBezTo>
                <a:cubicBezTo>
                  <a:pt x="3315" y="15468"/>
                  <a:pt x="3380" y="15345"/>
                  <a:pt x="3398" y="15304"/>
                </a:cubicBezTo>
                <a:cubicBezTo>
                  <a:pt x="3483" y="15113"/>
                  <a:pt x="3567" y="14938"/>
                  <a:pt x="3671" y="14759"/>
                </a:cubicBezTo>
                <a:cubicBezTo>
                  <a:pt x="3727" y="14662"/>
                  <a:pt x="3736" y="14607"/>
                  <a:pt x="3820" y="14635"/>
                </a:cubicBezTo>
                <a:cubicBezTo>
                  <a:pt x="3956" y="14681"/>
                  <a:pt x="3982" y="14795"/>
                  <a:pt x="3969" y="14932"/>
                </a:cubicBezTo>
                <a:cubicBezTo>
                  <a:pt x="3956" y="15068"/>
                  <a:pt x="3897" y="15200"/>
                  <a:pt x="3870" y="15329"/>
                </a:cubicBezTo>
                <a:cubicBezTo>
                  <a:pt x="3870" y="15337"/>
                  <a:pt x="3870" y="15346"/>
                  <a:pt x="3870" y="15354"/>
                </a:cubicBezTo>
              </a:path>
              <a:path w="1414" h="844">
                <a:moveTo>
                  <a:pt x="3547" y="15156"/>
                </a:moveTo>
                <a:cubicBezTo>
                  <a:pt x="3627" y="15140"/>
                  <a:pt x="3737" y="15101"/>
                  <a:pt x="3820" y="15106"/>
                </a:cubicBezTo>
                <a:cubicBezTo>
                  <a:pt x="3896" y="15111"/>
                  <a:pt x="3945" y="15116"/>
                  <a:pt x="4018" y="15131"/>
                </a:cubicBezTo>
              </a:path>
              <a:path w="1414" h="844">
                <a:moveTo>
                  <a:pt x="4390" y="15081"/>
                </a:moveTo>
                <a:cubicBezTo>
                  <a:pt x="4485" y="15055"/>
                  <a:pt x="4563" y="15056"/>
                  <a:pt x="4663" y="15056"/>
                </a:cubicBezTo>
                <a:cubicBezTo>
                  <a:pt x="4705" y="15056"/>
                  <a:pt x="4713" y="15056"/>
                  <a:pt x="4738" y="15056"/>
                </a:cubicBezTo>
              </a:path>
              <a:path w="1414" h="844">
                <a:moveTo>
                  <a:pt x="4390" y="15304"/>
                </a:moveTo>
                <a:cubicBezTo>
                  <a:pt x="4507" y="15343"/>
                  <a:pt x="4570" y="15300"/>
                  <a:pt x="4688" y="15280"/>
                </a:cubicBezTo>
                <a:cubicBezTo>
                  <a:pt x="4729" y="15280"/>
                  <a:pt x="4737" y="15280"/>
                  <a:pt x="4762" y="15280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973160" y="5116680"/>
            <a:ext cx="642960" cy="554040"/>
          </a:xfrm>
          <a:custGeom>
            <a:avLst/>
            <a:gdLst/>
            <a:ahLst/>
            <a:rect l="l" t="t" r="r" b="b"/>
            <a:pathLst>
              <a:path w="1787" h="1539">
                <a:moveTo>
                  <a:pt x="5978" y="14560"/>
                </a:moveTo>
                <a:cubicBezTo>
                  <a:pt x="6048" y="14560"/>
                  <a:pt x="5798" y="14513"/>
                  <a:pt x="5779" y="14511"/>
                </a:cubicBezTo>
                <a:cubicBezTo>
                  <a:pt x="5678" y="14500"/>
                  <a:pt x="5699" y="14503"/>
                  <a:pt x="5631" y="14486"/>
                </a:cubicBezTo>
                <a:cubicBezTo>
                  <a:pt x="5631" y="14628"/>
                  <a:pt x="5641" y="14782"/>
                  <a:pt x="5606" y="14908"/>
                </a:cubicBezTo>
                <a:cubicBezTo>
                  <a:pt x="5606" y="14916"/>
                  <a:pt x="5606" y="14924"/>
                  <a:pt x="5606" y="14932"/>
                </a:cubicBezTo>
                <a:cubicBezTo>
                  <a:pt x="5647" y="14891"/>
                  <a:pt x="5696" y="14846"/>
                  <a:pt x="5755" y="14833"/>
                </a:cubicBezTo>
                <a:cubicBezTo>
                  <a:pt x="5795" y="14824"/>
                  <a:pt x="5961" y="14873"/>
                  <a:pt x="5978" y="14908"/>
                </a:cubicBezTo>
                <a:cubicBezTo>
                  <a:pt x="6044" y="15044"/>
                  <a:pt x="5968" y="15199"/>
                  <a:pt x="5854" y="15280"/>
                </a:cubicBezTo>
                <a:cubicBezTo>
                  <a:pt x="5709" y="15383"/>
                  <a:pt x="5626" y="15360"/>
                  <a:pt x="5507" y="15255"/>
                </a:cubicBezTo>
                <a:cubicBezTo>
                  <a:pt x="5484" y="15232"/>
                  <a:pt x="5476" y="15228"/>
                  <a:pt x="5482" y="15205"/>
                </a:cubicBezTo>
              </a:path>
              <a:path w="1787" h="1539">
                <a:moveTo>
                  <a:pt x="6474" y="14238"/>
                </a:moveTo>
                <a:cubicBezTo>
                  <a:pt x="6546" y="14166"/>
                  <a:pt x="6414" y="14313"/>
                  <a:pt x="6400" y="14337"/>
                </a:cubicBezTo>
                <a:cubicBezTo>
                  <a:pt x="6315" y="14482"/>
                  <a:pt x="6243" y="14671"/>
                  <a:pt x="6201" y="14833"/>
                </a:cubicBezTo>
                <a:cubicBezTo>
                  <a:pt x="6159" y="14998"/>
                  <a:pt x="6092" y="15208"/>
                  <a:pt x="6102" y="15379"/>
                </a:cubicBezTo>
                <a:cubicBezTo>
                  <a:pt x="6109" y="15505"/>
                  <a:pt x="6215" y="15501"/>
                  <a:pt x="6300" y="15528"/>
                </a:cubicBezTo>
                <a:cubicBezTo>
                  <a:pt x="6354" y="15545"/>
                  <a:pt x="6370" y="15547"/>
                  <a:pt x="6424" y="15553"/>
                </a:cubicBezTo>
              </a:path>
              <a:path w="1787" h="1539">
                <a:moveTo>
                  <a:pt x="6573" y="14734"/>
                </a:moveTo>
                <a:cubicBezTo>
                  <a:pt x="6580" y="14714"/>
                  <a:pt x="6616" y="14675"/>
                  <a:pt x="6648" y="14660"/>
                </a:cubicBezTo>
                <a:cubicBezTo>
                  <a:pt x="6694" y="14638"/>
                  <a:pt x="6776" y="14615"/>
                  <a:pt x="6821" y="14610"/>
                </a:cubicBezTo>
                <a:cubicBezTo>
                  <a:pt x="6829" y="14610"/>
                  <a:pt x="6838" y="14610"/>
                  <a:pt x="6846" y="14610"/>
                </a:cubicBezTo>
                <a:cubicBezTo>
                  <a:pt x="6858" y="14672"/>
                  <a:pt x="6871" y="14717"/>
                  <a:pt x="6871" y="14784"/>
                </a:cubicBezTo>
                <a:cubicBezTo>
                  <a:pt x="6871" y="14877"/>
                  <a:pt x="6791" y="14879"/>
                  <a:pt x="6722" y="14908"/>
                </a:cubicBezTo>
                <a:cubicBezTo>
                  <a:pt x="6672" y="14929"/>
                  <a:pt x="6611" y="14952"/>
                  <a:pt x="6573" y="14982"/>
                </a:cubicBezTo>
                <a:cubicBezTo>
                  <a:pt x="6499" y="15041"/>
                  <a:pt x="6416" y="15081"/>
                  <a:pt x="6350" y="15156"/>
                </a:cubicBezTo>
                <a:cubicBezTo>
                  <a:pt x="6297" y="15216"/>
                  <a:pt x="6285" y="15237"/>
                  <a:pt x="6276" y="15304"/>
                </a:cubicBezTo>
                <a:cubicBezTo>
                  <a:pt x="6276" y="15216"/>
                  <a:pt x="6335" y="15229"/>
                  <a:pt x="6400" y="15205"/>
                </a:cubicBezTo>
                <a:cubicBezTo>
                  <a:pt x="6448" y="15187"/>
                  <a:pt x="6483" y="15179"/>
                  <a:pt x="6524" y="15156"/>
                </a:cubicBezTo>
                <a:cubicBezTo>
                  <a:pt x="6549" y="15216"/>
                  <a:pt x="6564" y="15265"/>
                  <a:pt x="6623" y="15304"/>
                </a:cubicBezTo>
                <a:cubicBezTo>
                  <a:pt x="6697" y="15354"/>
                  <a:pt x="6809" y="15306"/>
                  <a:pt x="6871" y="15255"/>
                </a:cubicBezTo>
                <a:cubicBezTo>
                  <a:pt x="6903" y="15229"/>
                  <a:pt x="6896" y="15217"/>
                  <a:pt x="6896" y="15180"/>
                </a:cubicBezTo>
              </a:path>
              <a:path w="1787" h="1539">
                <a:moveTo>
                  <a:pt x="6945" y="14238"/>
                </a:moveTo>
                <a:cubicBezTo>
                  <a:pt x="6998" y="14225"/>
                  <a:pt x="7053" y="14339"/>
                  <a:pt x="7094" y="14412"/>
                </a:cubicBezTo>
                <a:cubicBezTo>
                  <a:pt x="7165" y="14539"/>
                  <a:pt x="7252" y="14712"/>
                  <a:pt x="7268" y="14858"/>
                </a:cubicBezTo>
                <a:cubicBezTo>
                  <a:pt x="7285" y="15017"/>
                  <a:pt x="7270" y="15211"/>
                  <a:pt x="7193" y="15354"/>
                </a:cubicBezTo>
                <a:cubicBezTo>
                  <a:pt x="7150" y="15433"/>
                  <a:pt x="7053" y="15553"/>
                  <a:pt x="6995" y="15602"/>
                </a:cubicBezTo>
                <a:cubicBezTo>
                  <a:pt x="6958" y="15633"/>
                  <a:pt x="6919" y="15682"/>
                  <a:pt x="6871" y="15726"/>
                </a:cubicBezTo>
                <a:cubicBezTo>
                  <a:pt x="6846" y="15726"/>
                  <a:pt x="6838" y="15726"/>
                  <a:pt x="6846" y="15751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285920" y="5769000"/>
            <a:ext cx="420480" cy="285840"/>
          </a:xfrm>
          <a:custGeom>
            <a:avLst/>
            <a:gdLst/>
            <a:ahLst/>
            <a:rect l="l" t="t" r="r" b="b"/>
            <a:pathLst>
              <a:path w="1167" h="795">
                <a:moveTo>
                  <a:pt x="3746" y="16222"/>
                </a:moveTo>
                <a:cubicBezTo>
                  <a:pt x="3726" y="16359"/>
                  <a:pt x="3711" y="16510"/>
                  <a:pt x="3671" y="16644"/>
                </a:cubicBezTo>
                <a:cubicBezTo>
                  <a:pt x="3651" y="16710"/>
                  <a:pt x="3633" y="16769"/>
                  <a:pt x="3597" y="16818"/>
                </a:cubicBezTo>
                <a:cubicBezTo>
                  <a:pt x="3574" y="16704"/>
                  <a:pt x="3566" y="16616"/>
                  <a:pt x="3597" y="16495"/>
                </a:cubicBezTo>
                <a:cubicBezTo>
                  <a:pt x="3642" y="16319"/>
                  <a:pt x="3754" y="16187"/>
                  <a:pt x="3894" y="16073"/>
                </a:cubicBezTo>
                <a:cubicBezTo>
                  <a:pt x="3919" y="16057"/>
                  <a:pt x="3944" y="16040"/>
                  <a:pt x="3969" y="16024"/>
                </a:cubicBezTo>
                <a:cubicBezTo>
                  <a:pt x="4119" y="16039"/>
                  <a:pt x="4107" y="16176"/>
                  <a:pt x="4118" y="16321"/>
                </a:cubicBezTo>
                <a:cubicBezTo>
                  <a:pt x="4127" y="16436"/>
                  <a:pt x="4124" y="16640"/>
                  <a:pt x="4068" y="16743"/>
                </a:cubicBezTo>
                <a:cubicBezTo>
                  <a:pt x="4060" y="16751"/>
                  <a:pt x="4051" y="16760"/>
                  <a:pt x="4043" y="16768"/>
                </a:cubicBezTo>
              </a:path>
              <a:path w="1167" h="795">
                <a:moveTo>
                  <a:pt x="3671" y="16619"/>
                </a:moveTo>
                <a:cubicBezTo>
                  <a:pt x="3757" y="16602"/>
                  <a:pt x="3830" y="16536"/>
                  <a:pt x="3919" y="16520"/>
                </a:cubicBezTo>
                <a:cubicBezTo>
                  <a:pt x="3957" y="16513"/>
                  <a:pt x="4027" y="16520"/>
                  <a:pt x="4068" y="16520"/>
                </a:cubicBezTo>
              </a:path>
              <a:path w="1167" h="795">
                <a:moveTo>
                  <a:pt x="4415" y="16470"/>
                </a:moveTo>
                <a:cubicBezTo>
                  <a:pt x="4462" y="16467"/>
                  <a:pt x="4722" y="16386"/>
                  <a:pt x="4738" y="16396"/>
                </a:cubicBezTo>
                <a:cubicBezTo>
                  <a:pt x="4738" y="16413"/>
                  <a:pt x="4738" y="16429"/>
                  <a:pt x="4738" y="16446"/>
                </a:cubicBezTo>
              </a:path>
              <a:path w="1167" h="795">
                <a:moveTo>
                  <a:pt x="4366" y="16768"/>
                </a:moveTo>
                <a:cubicBezTo>
                  <a:pt x="4471" y="16740"/>
                  <a:pt x="4582" y="16679"/>
                  <a:pt x="4688" y="16669"/>
                </a:cubicBezTo>
                <a:cubicBezTo>
                  <a:pt x="4696" y="16669"/>
                  <a:pt x="4705" y="16669"/>
                  <a:pt x="4713" y="16669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866960" y="5769000"/>
            <a:ext cx="830160" cy="339840"/>
          </a:xfrm>
          <a:custGeom>
            <a:avLst/>
            <a:gdLst/>
            <a:ahLst/>
            <a:rect l="l" t="t" r="r" b="b"/>
            <a:pathLst>
              <a:path w="2308" h="943">
                <a:moveTo>
                  <a:pt x="5432" y="16073"/>
                </a:moveTo>
                <a:cubicBezTo>
                  <a:pt x="5404" y="16186"/>
                  <a:pt x="5366" y="16325"/>
                  <a:pt x="5333" y="16446"/>
                </a:cubicBezTo>
                <a:cubicBezTo>
                  <a:pt x="5306" y="16545"/>
                  <a:pt x="5260" y="16736"/>
                  <a:pt x="5184" y="16793"/>
                </a:cubicBezTo>
              </a:path>
              <a:path w="2308" h="943">
                <a:moveTo>
                  <a:pt x="5928" y="16222"/>
                </a:moveTo>
                <a:cubicBezTo>
                  <a:pt x="5800" y="16265"/>
                  <a:pt x="5781" y="16349"/>
                  <a:pt x="5730" y="16470"/>
                </a:cubicBezTo>
                <a:cubicBezTo>
                  <a:pt x="5677" y="16596"/>
                  <a:pt x="5680" y="16686"/>
                  <a:pt x="5680" y="16818"/>
                </a:cubicBezTo>
                <a:cubicBezTo>
                  <a:pt x="5819" y="16842"/>
                  <a:pt x="5944" y="16802"/>
                  <a:pt x="6052" y="16694"/>
                </a:cubicBezTo>
                <a:cubicBezTo>
                  <a:pt x="6153" y="16593"/>
                  <a:pt x="6137" y="16484"/>
                  <a:pt x="6077" y="16371"/>
                </a:cubicBezTo>
                <a:cubicBezTo>
                  <a:pt x="6037" y="16295"/>
                  <a:pt x="5966" y="16231"/>
                  <a:pt x="5879" y="16222"/>
                </a:cubicBezTo>
                <a:cubicBezTo>
                  <a:pt x="5831" y="16217"/>
                  <a:pt x="5824" y="16262"/>
                  <a:pt x="5804" y="16297"/>
                </a:cubicBezTo>
              </a:path>
              <a:path w="2308" h="943">
                <a:moveTo>
                  <a:pt x="6449" y="16495"/>
                </a:moveTo>
                <a:cubicBezTo>
                  <a:pt x="6436" y="16620"/>
                  <a:pt x="6421" y="16743"/>
                  <a:pt x="6400" y="16867"/>
                </a:cubicBezTo>
                <a:cubicBezTo>
                  <a:pt x="6320" y="16974"/>
                  <a:pt x="6391" y="16803"/>
                  <a:pt x="6400" y="16768"/>
                </a:cubicBezTo>
                <a:cubicBezTo>
                  <a:pt x="6435" y="16634"/>
                  <a:pt x="6458" y="16515"/>
                  <a:pt x="6598" y="16495"/>
                </a:cubicBezTo>
                <a:cubicBezTo>
                  <a:pt x="6615" y="16495"/>
                  <a:pt x="6631" y="16495"/>
                  <a:pt x="6648" y="16495"/>
                </a:cubicBezTo>
                <a:cubicBezTo>
                  <a:pt x="6704" y="16633"/>
                  <a:pt x="6766" y="16769"/>
                  <a:pt x="6722" y="16917"/>
                </a:cubicBezTo>
                <a:cubicBezTo>
                  <a:pt x="6714" y="16933"/>
                  <a:pt x="6705" y="16950"/>
                  <a:pt x="6697" y="16966"/>
                </a:cubicBezTo>
                <a:cubicBezTo>
                  <a:pt x="6697" y="16852"/>
                  <a:pt x="6688" y="16776"/>
                  <a:pt x="6747" y="16669"/>
                </a:cubicBezTo>
                <a:cubicBezTo>
                  <a:pt x="6785" y="16601"/>
                  <a:pt x="6831" y="16546"/>
                  <a:pt x="6896" y="16520"/>
                </a:cubicBezTo>
                <a:cubicBezTo>
                  <a:pt x="6946" y="16605"/>
                  <a:pt x="6972" y="16731"/>
                  <a:pt x="6945" y="16842"/>
                </a:cubicBezTo>
                <a:cubicBezTo>
                  <a:pt x="6943" y="16851"/>
                  <a:pt x="6921" y="16960"/>
                  <a:pt x="6921" y="16892"/>
                </a:cubicBezTo>
              </a:path>
              <a:path w="2308" h="943">
                <a:moveTo>
                  <a:pt x="7243" y="16073"/>
                </a:moveTo>
                <a:cubicBezTo>
                  <a:pt x="7190" y="16073"/>
                  <a:pt x="7294" y="16060"/>
                  <a:pt x="7317" y="16049"/>
                </a:cubicBezTo>
                <a:cubicBezTo>
                  <a:pt x="7382" y="16019"/>
                  <a:pt x="7476" y="16014"/>
                  <a:pt x="7441" y="16123"/>
                </a:cubicBezTo>
                <a:cubicBezTo>
                  <a:pt x="7404" y="16239"/>
                  <a:pt x="7301" y="16313"/>
                  <a:pt x="7218" y="16396"/>
                </a:cubicBezTo>
                <a:cubicBezTo>
                  <a:pt x="7294" y="16411"/>
                  <a:pt x="7336" y="16402"/>
                  <a:pt x="7417" y="16396"/>
                </a:cubicBezTo>
                <a:cubicBezTo>
                  <a:pt x="7441" y="16394"/>
                  <a:pt x="7467" y="16396"/>
                  <a:pt x="7491" y="16396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13000" y="33012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Area of a triang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752480" y="2743200"/>
          <a:ext cx="3911760" cy="939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743200"/>
                    <a:ext cx="3911760" cy="93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" name=""/>
          <p:cNvGraphicFramePr/>
          <p:nvPr/>
        </p:nvGraphicFramePr>
        <p:xfrm>
          <a:off x="2133720" y="4038480"/>
          <a:ext cx="1409760" cy="939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3720" y="4038480"/>
                    <a:ext cx="1409760" cy="93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"/>
          <p:cNvSpPr/>
          <p:nvPr/>
        </p:nvSpPr>
        <p:spPr>
          <a:xfrm>
            <a:off x="5257800" y="3581280"/>
            <a:ext cx="3048120" cy="1905120"/>
          </a:xfrm>
          <a:prstGeom prst="triangle">
            <a:avLst>
              <a:gd name="adj" fmla="val 5000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81680" y="358128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81680" y="5181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162920" y="51814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400800" y="4419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66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629400" y="5638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66ff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2057400" y="5638680"/>
          <a:ext cx="1981080" cy="812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057400" y="5638680"/>
                    <a:ext cx="1981080" cy="81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"/>
          <p:cNvSpPr/>
          <p:nvPr/>
        </p:nvSpPr>
        <p:spPr>
          <a:xfrm>
            <a:off x="2666880" y="51814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28480" y="152280"/>
            <a:ext cx="8001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jective:  Students will find the area of a triang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92080" y="1116000"/>
            <a:ext cx="1108080" cy="706320"/>
          </a:xfrm>
          <a:custGeom>
            <a:avLst/>
            <a:gdLst/>
            <a:ahLst/>
            <a:rect l="l" t="t" r="r" b="b"/>
            <a:pathLst>
              <a:path w="3077" h="1960">
                <a:moveTo>
                  <a:pt x="2679" y="3125"/>
                </a:moveTo>
                <a:cubicBezTo>
                  <a:pt x="2679" y="3117"/>
                  <a:pt x="2679" y="3109"/>
                  <a:pt x="2679" y="3101"/>
                </a:cubicBezTo>
                <a:cubicBezTo>
                  <a:pt x="2738" y="3196"/>
                  <a:pt x="2685" y="3313"/>
                  <a:pt x="2679" y="3423"/>
                </a:cubicBezTo>
                <a:cubicBezTo>
                  <a:pt x="2668" y="3604"/>
                  <a:pt x="2712" y="3793"/>
                  <a:pt x="2704" y="3969"/>
                </a:cubicBezTo>
                <a:cubicBezTo>
                  <a:pt x="2699" y="4094"/>
                  <a:pt x="2679" y="4214"/>
                  <a:pt x="2679" y="4341"/>
                </a:cubicBezTo>
                <a:cubicBezTo>
                  <a:pt x="2679" y="4416"/>
                  <a:pt x="2668" y="4514"/>
                  <a:pt x="2654" y="4589"/>
                </a:cubicBezTo>
                <a:cubicBezTo>
                  <a:pt x="2639" y="4670"/>
                  <a:pt x="2644" y="4756"/>
                  <a:pt x="2629" y="4837"/>
                </a:cubicBezTo>
                <a:cubicBezTo>
                  <a:pt x="2610" y="4894"/>
                  <a:pt x="2601" y="4937"/>
                  <a:pt x="2604" y="4887"/>
                </a:cubicBezTo>
              </a:path>
              <a:path w="3077" h="1960">
                <a:moveTo>
                  <a:pt x="2629" y="3175"/>
                </a:moveTo>
                <a:cubicBezTo>
                  <a:pt x="2654" y="3164"/>
                  <a:pt x="2694" y="3132"/>
                  <a:pt x="2753" y="3125"/>
                </a:cubicBezTo>
                <a:cubicBezTo>
                  <a:pt x="2841" y="3114"/>
                  <a:pt x="2918" y="3141"/>
                  <a:pt x="3001" y="3150"/>
                </a:cubicBezTo>
                <a:cubicBezTo>
                  <a:pt x="3133" y="3165"/>
                  <a:pt x="3275" y="3117"/>
                  <a:pt x="3398" y="3125"/>
                </a:cubicBezTo>
                <a:cubicBezTo>
                  <a:pt x="3467" y="3129"/>
                  <a:pt x="3544" y="3148"/>
                  <a:pt x="3621" y="3150"/>
                </a:cubicBezTo>
                <a:cubicBezTo>
                  <a:pt x="3855" y="3157"/>
                  <a:pt x="4088" y="3149"/>
                  <a:pt x="4316" y="3125"/>
                </a:cubicBezTo>
                <a:cubicBezTo>
                  <a:pt x="4651" y="3090"/>
                  <a:pt x="5011" y="3170"/>
                  <a:pt x="5333" y="3150"/>
                </a:cubicBezTo>
                <a:cubicBezTo>
                  <a:pt x="5402" y="3146"/>
                  <a:pt x="5415" y="3165"/>
                  <a:pt x="5482" y="3150"/>
                </a:cubicBezTo>
                <a:cubicBezTo>
                  <a:pt x="5524" y="3140"/>
                  <a:pt x="5491" y="3138"/>
                  <a:pt x="5531" y="3125"/>
                </a:cubicBezTo>
                <a:cubicBezTo>
                  <a:pt x="5536" y="3170"/>
                  <a:pt x="5565" y="3211"/>
                  <a:pt x="5556" y="3274"/>
                </a:cubicBezTo>
                <a:cubicBezTo>
                  <a:pt x="5540" y="3389"/>
                  <a:pt x="5515" y="3504"/>
                  <a:pt x="5507" y="3621"/>
                </a:cubicBezTo>
                <a:cubicBezTo>
                  <a:pt x="5482" y="3997"/>
                  <a:pt x="5507" y="4385"/>
                  <a:pt x="5507" y="4762"/>
                </a:cubicBezTo>
              </a:path>
              <a:path w="3077" h="1960">
                <a:moveTo>
                  <a:pt x="2480" y="4911"/>
                </a:moveTo>
                <a:cubicBezTo>
                  <a:pt x="2534" y="4906"/>
                  <a:pt x="2548" y="4890"/>
                  <a:pt x="2580" y="4887"/>
                </a:cubicBezTo>
                <a:cubicBezTo>
                  <a:pt x="2661" y="4879"/>
                  <a:pt x="2729" y="4891"/>
                  <a:pt x="2803" y="4911"/>
                </a:cubicBezTo>
                <a:cubicBezTo>
                  <a:pt x="2858" y="4926"/>
                  <a:pt x="2903" y="4942"/>
                  <a:pt x="2952" y="4961"/>
                </a:cubicBezTo>
                <a:cubicBezTo>
                  <a:pt x="3001" y="4980"/>
                  <a:pt x="3052" y="4972"/>
                  <a:pt x="3101" y="4986"/>
                </a:cubicBezTo>
                <a:cubicBezTo>
                  <a:pt x="3194" y="5013"/>
                  <a:pt x="3300" y="5031"/>
                  <a:pt x="3398" y="5035"/>
                </a:cubicBezTo>
                <a:cubicBezTo>
                  <a:pt x="3495" y="5039"/>
                  <a:pt x="3602" y="5070"/>
                  <a:pt x="3696" y="5060"/>
                </a:cubicBezTo>
                <a:cubicBezTo>
                  <a:pt x="3782" y="5051"/>
                  <a:pt x="3856" y="5038"/>
                  <a:pt x="3944" y="5035"/>
                </a:cubicBezTo>
                <a:cubicBezTo>
                  <a:pt x="4192" y="5026"/>
                  <a:pt x="4449" y="5037"/>
                  <a:pt x="4688" y="5060"/>
                </a:cubicBezTo>
                <a:cubicBezTo>
                  <a:pt x="4891" y="5080"/>
                  <a:pt x="5114" y="5058"/>
                  <a:pt x="5308" y="5035"/>
                </a:cubicBezTo>
                <a:cubicBezTo>
                  <a:pt x="5388" y="5026"/>
                  <a:pt x="5475" y="5035"/>
                  <a:pt x="5556" y="5035"/>
                </a:cubicBezTo>
                <a:cubicBezTo>
                  <a:pt x="5556" y="4939"/>
                  <a:pt x="5541" y="4843"/>
                  <a:pt x="5531" y="4762"/>
                </a:cubicBezTo>
                <a:cubicBezTo>
                  <a:pt x="5527" y="4730"/>
                  <a:pt x="5534" y="4696"/>
                  <a:pt x="5531" y="4663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259240" y="5464080"/>
            <a:ext cx="1800" cy="9720"/>
          </a:xfrm>
          <a:custGeom>
            <a:avLst/>
            <a:gdLst/>
            <a:ahLst/>
            <a:rect l="l" t="t" r="r" b="b"/>
            <a:pathLst>
              <a:path w="1" h="26">
                <a:moveTo>
                  <a:pt x="14610" y="15205"/>
                </a:moveTo>
                <a:cubicBezTo>
                  <a:pt x="14610" y="15197"/>
                  <a:pt x="14610" y="15188"/>
                  <a:pt x="14610" y="15180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259240" y="5303880"/>
            <a:ext cx="9720" cy="1440"/>
          </a:xfrm>
          <a:custGeom>
            <a:avLst/>
            <a:gdLst/>
            <a:ahLst/>
            <a:rect l="l" t="t" r="r" b="b"/>
            <a:pathLst>
              <a:path w="26" h="1">
                <a:moveTo>
                  <a:pt x="14610" y="14734"/>
                </a:moveTo>
                <a:cubicBezTo>
                  <a:pt x="14618" y="14734"/>
                  <a:pt x="14627" y="14734"/>
                  <a:pt x="14635" y="14734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295960" y="518796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4709" y="14412"/>
                </a:moveTo>
                <a:lnTo>
                  <a:pt x="14709" y="14412"/>
                </a:ln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295960" y="509904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4709" y="14163"/>
                </a:moveTo>
                <a:lnTo>
                  <a:pt x="14709" y="14163"/>
                </a:ln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295960" y="4902120"/>
            <a:ext cx="1440" cy="9720"/>
          </a:xfrm>
          <a:custGeom>
            <a:avLst/>
            <a:gdLst/>
            <a:ahLst/>
            <a:rect l="l" t="t" r="r" b="b"/>
            <a:pathLst>
              <a:path w="1" h="26">
                <a:moveTo>
                  <a:pt x="14709" y="13643"/>
                </a:moveTo>
                <a:cubicBezTo>
                  <a:pt x="14709" y="13635"/>
                  <a:pt x="14709" y="13626"/>
                  <a:pt x="14709" y="13618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322960" y="479592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4784" y="13320"/>
                </a:moveTo>
                <a:lnTo>
                  <a:pt x="14784" y="13320"/>
                </a:ln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340240" y="4697280"/>
            <a:ext cx="180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14833" y="13047"/>
                </a:moveTo>
                <a:lnTo>
                  <a:pt x="14833" y="13047"/>
                </a:ln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340240" y="451800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4833" y="12551"/>
                </a:moveTo>
                <a:lnTo>
                  <a:pt x="14833" y="12551"/>
                </a:ln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357880" y="440208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14883" y="12229"/>
                </a:moveTo>
                <a:lnTo>
                  <a:pt x="14883" y="12229"/>
                </a:ln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357880" y="4224240"/>
            <a:ext cx="9360" cy="1800"/>
          </a:xfrm>
          <a:custGeom>
            <a:avLst/>
            <a:gdLst/>
            <a:ahLst/>
            <a:rect l="l" t="t" r="r" b="b"/>
            <a:pathLst>
              <a:path w="26" h="1">
                <a:moveTo>
                  <a:pt x="14883" y="11733"/>
                </a:moveTo>
                <a:cubicBezTo>
                  <a:pt x="14891" y="11733"/>
                  <a:pt x="14900" y="11733"/>
                  <a:pt x="14908" y="11733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375160" y="409896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4932" y="11385"/>
                </a:moveTo>
                <a:lnTo>
                  <a:pt x="14932" y="11385"/>
                </a:ln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92800" y="3938760"/>
            <a:ext cx="1440" cy="9360"/>
          </a:xfrm>
          <a:custGeom>
            <a:avLst/>
            <a:gdLst/>
            <a:ahLst/>
            <a:rect l="l" t="t" r="r" b="b"/>
            <a:pathLst>
              <a:path w="1" h="26">
                <a:moveTo>
                  <a:pt x="14982" y="10964"/>
                </a:moveTo>
                <a:cubicBezTo>
                  <a:pt x="14982" y="10956"/>
                  <a:pt x="14982" y="10947"/>
                  <a:pt x="14982" y="10939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402160" y="3705120"/>
            <a:ext cx="9720" cy="100080"/>
          </a:xfrm>
          <a:custGeom>
            <a:avLst/>
            <a:gdLst/>
            <a:ahLst/>
            <a:rect l="l" t="t" r="r" b="b"/>
            <a:pathLst>
              <a:path w="26" h="274">
                <a:moveTo>
                  <a:pt x="15032" y="10567"/>
                </a:moveTo>
                <a:cubicBezTo>
                  <a:pt x="15032" y="10559"/>
                  <a:pt x="15032" y="10550"/>
                  <a:pt x="15032" y="10542"/>
                </a:cubicBezTo>
              </a:path>
              <a:path w="26" h="274">
                <a:moveTo>
                  <a:pt x="15032" y="10294"/>
                </a:moveTo>
                <a:cubicBezTo>
                  <a:pt x="15024" y="10302"/>
                  <a:pt x="15015" y="10311"/>
                  <a:pt x="15007" y="10319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419800" y="360684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5056" y="10021"/>
                </a:moveTo>
                <a:lnTo>
                  <a:pt x="15056" y="10021"/>
                </a:ln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438880" y="3537000"/>
            <a:ext cx="9360" cy="1440"/>
          </a:xfrm>
          <a:custGeom>
            <a:avLst/>
            <a:gdLst/>
            <a:ahLst/>
            <a:rect l="l" t="t" r="r" b="b"/>
            <a:pathLst>
              <a:path w="26" h="1">
                <a:moveTo>
                  <a:pt x="15131" y="9823"/>
                </a:moveTo>
                <a:cubicBezTo>
                  <a:pt x="15123" y="9823"/>
                  <a:pt x="15114" y="9823"/>
                  <a:pt x="15106" y="9823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554800" y="3537000"/>
            <a:ext cx="9360" cy="1440"/>
          </a:xfrm>
          <a:custGeom>
            <a:avLst/>
            <a:gdLst/>
            <a:ahLst/>
            <a:rect l="l" t="t" r="r" b="b"/>
            <a:pathLst>
              <a:path w="25" h="1">
                <a:moveTo>
                  <a:pt x="15429" y="9823"/>
                </a:moveTo>
                <a:cubicBezTo>
                  <a:pt x="15437" y="9823"/>
                  <a:pt x="15445" y="9823"/>
                  <a:pt x="15453" y="9823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742000" y="352728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15949" y="9798"/>
                </a:moveTo>
                <a:lnTo>
                  <a:pt x="15949" y="9798"/>
                </a:lnTo>
                <a:lnTo>
                  <a:pt x="15949" y="9798"/>
                </a:ln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848200" y="3554280"/>
            <a:ext cx="9720" cy="9720"/>
          </a:xfrm>
          <a:custGeom>
            <a:avLst/>
            <a:gdLst/>
            <a:ahLst/>
            <a:rect l="l" t="t" r="r" b="b"/>
            <a:pathLst>
              <a:path w="26" h="26">
                <a:moveTo>
                  <a:pt x="16247" y="9872"/>
                </a:moveTo>
                <a:cubicBezTo>
                  <a:pt x="16255" y="9880"/>
                  <a:pt x="16264" y="9889"/>
                  <a:pt x="16272" y="9897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116760" y="3562200"/>
            <a:ext cx="81000" cy="1800"/>
          </a:xfrm>
          <a:custGeom>
            <a:avLst/>
            <a:gdLst/>
            <a:ahLst/>
            <a:rect l="l" t="t" r="r" b="b"/>
            <a:pathLst>
              <a:path w="224" h="1">
                <a:moveTo>
                  <a:pt x="16991" y="9897"/>
                </a:moveTo>
                <a:lnTo>
                  <a:pt x="16991" y="9897"/>
                </a:lnTo>
              </a:path>
              <a:path w="224" h="1">
                <a:moveTo>
                  <a:pt x="17190" y="9897"/>
                </a:moveTo>
                <a:cubicBezTo>
                  <a:pt x="17198" y="9897"/>
                  <a:pt x="17206" y="9897"/>
                  <a:pt x="17214" y="9897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446880" y="358128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17909" y="9947"/>
                </a:moveTo>
                <a:lnTo>
                  <a:pt x="17909" y="9947"/>
                </a:ln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572160" y="3581280"/>
            <a:ext cx="9720" cy="7920"/>
          </a:xfrm>
          <a:custGeom>
            <a:avLst/>
            <a:gdLst/>
            <a:ahLst/>
            <a:rect l="l" t="t" r="r" b="b"/>
            <a:pathLst>
              <a:path w="26" h="25">
                <a:moveTo>
                  <a:pt x="18256" y="9971"/>
                </a:moveTo>
                <a:cubicBezTo>
                  <a:pt x="18281" y="9971"/>
                  <a:pt x="18289" y="9971"/>
                  <a:pt x="18281" y="9947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697800" y="3571920"/>
            <a:ext cx="1440" cy="9360"/>
          </a:xfrm>
          <a:custGeom>
            <a:avLst/>
            <a:gdLst/>
            <a:ahLst/>
            <a:rect l="l" t="t" r="r" b="b"/>
            <a:pathLst>
              <a:path w="1" h="26">
                <a:moveTo>
                  <a:pt x="18604" y="9922"/>
                </a:moveTo>
                <a:cubicBezTo>
                  <a:pt x="18604" y="9930"/>
                  <a:pt x="18604" y="9939"/>
                  <a:pt x="18604" y="9947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13720" y="359892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8926" y="9996"/>
                </a:moveTo>
                <a:lnTo>
                  <a:pt x="18926" y="9996"/>
                </a:lnTo>
                <a:lnTo>
                  <a:pt x="18926" y="9996"/>
                </a:ln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929280" y="360684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9248" y="10021"/>
                </a:moveTo>
                <a:lnTo>
                  <a:pt x="19248" y="10021"/>
                </a:ln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134120" y="360684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9819" y="10021"/>
                </a:moveTo>
                <a:lnTo>
                  <a:pt x="19819" y="10021"/>
                </a:lnTo>
                <a:lnTo>
                  <a:pt x="19819" y="10021"/>
                </a:ln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40760" y="3606840"/>
            <a:ext cx="9360" cy="1440"/>
          </a:xfrm>
          <a:custGeom>
            <a:avLst/>
            <a:gdLst/>
            <a:ahLst/>
            <a:rect l="l" t="t" r="r" b="b"/>
            <a:pathLst>
              <a:path w="26" h="1">
                <a:moveTo>
                  <a:pt x="20389" y="10021"/>
                </a:moveTo>
                <a:cubicBezTo>
                  <a:pt x="20397" y="10021"/>
                  <a:pt x="20406" y="10021"/>
                  <a:pt x="20414" y="10021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483320" y="3616200"/>
            <a:ext cx="36720" cy="9720"/>
          </a:xfrm>
          <a:custGeom>
            <a:avLst/>
            <a:gdLst/>
            <a:ahLst/>
            <a:rect l="l" t="t" r="r" b="b"/>
            <a:pathLst>
              <a:path w="101" h="26">
                <a:moveTo>
                  <a:pt x="20786" y="10046"/>
                </a:moveTo>
                <a:cubicBezTo>
                  <a:pt x="20862" y="10046"/>
                  <a:pt x="20840" y="10056"/>
                  <a:pt x="20886" y="10071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634160" y="3616200"/>
            <a:ext cx="180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21208" y="10046"/>
                </a:moveTo>
                <a:lnTo>
                  <a:pt x="21208" y="10046"/>
                </a:ln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902720" y="363384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21952" y="10096"/>
                </a:moveTo>
                <a:lnTo>
                  <a:pt x="21952" y="10096"/>
                </a:ln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8001000" y="362592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22225" y="10071"/>
                </a:moveTo>
                <a:lnTo>
                  <a:pt x="22225" y="10071"/>
                </a:lnTo>
                <a:lnTo>
                  <a:pt x="22225" y="10071"/>
                </a:ln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8143920" y="3643200"/>
            <a:ext cx="1440" cy="9720"/>
          </a:xfrm>
          <a:custGeom>
            <a:avLst/>
            <a:gdLst/>
            <a:ahLst/>
            <a:rect l="l" t="t" r="r" b="b"/>
            <a:pathLst>
              <a:path w="1" h="26">
                <a:moveTo>
                  <a:pt x="22622" y="10120"/>
                </a:moveTo>
                <a:cubicBezTo>
                  <a:pt x="22622" y="10128"/>
                  <a:pt x="22622" y="10137"/>
                  <a:pt x="22622" y="10145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259840" y="3652920"/>
            <a:ext cx="44280" cy="44280"/>
          </a:xfrm>
          <a:custGeom>
            <a:avLst/>
            <a:gdLst/>
            <a:ahLst/>
            <a:rect l="l" t="t" r="r" b="b"/>
            <a:pathLst>
              <a:path w="125" h="125">
                <a:moveTo>
                  <a:pt x="23044" y="10269"/>
                </a:moveTo>
                <a:lnTo>
                  <a:pt x="23044" y="10269"/>
                </a:lnTo>
              </a:path>
              <a:path w="125" h="125">
                <a:moveTo>
                  <a:pt x="22944" y="10170"/>
                </a:moveTo>
                <a:cubicBezTo>
                  <a:pt x="22944" y="10162"/>
                  <a:pt x="22944" y="10153"/>
                  <a:pt x="22944" y="10145"/>
                </a:cubicBezTo>
              </a:path>
              <a:path w="125" h="125">
                <a:moveTo>
                  <a:pt x="22944" y="10145"/>
                </a:moveTo>
                <a:lnTo>
                  <a:pt x="22944" y="10145"/>
                </a:lnTo>
              </a:path>
              <a:path w="125" h="125">
                <a:moveTo>
                  <a:pt x="23044" y="10170"/>
                </a:moveTo>
                <a:cubicBezTo>
                  <a:pt x="23052" y="10170"/>
                  <a:pt x="23060" y="10170"/>
                  <a:pt x="23068" y="10170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23200" y="3813120"/>
            <a:ext cx="180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23118" y="10592"/>
                </a:moveTo>
                <a:lnTo>
                  <a:pt x="23118" y="10592"/>
                </a:ln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323200" y="393876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23118" y="10939"/>
                </a:moveTo>
                <a:lnTo>
                  <a:pt x="23118" y="10939"/>
                </a:ln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8348760" y="4044960"/>
            <a:ext cx="9360" cy="9360"/>
          </a:xfrm>
          <a:custGeom>
            <a:avLst/>
            <a:gdLst/>
            <a:ahLst/>
            <a:rect l="l" t="t" r="r" b="b"/>
            <a:pathLst>
              <a:path w="26" h="25">
                <a:moveTo>
                  <a:pt x="23192" y="11237"/>
                </a:moveTo>
                <a:cubicBezTo>
                  <a:pt x="23200" y="11245"/>
                  <a:pt x="23209" y="11253"/>
                  <a:pt x="23217" y="11261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323200" y="417996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23118" y="11609"/>
                </a:moveTo>
                <a:lnTo>
                  <a:pt x="23118" y="11609"/>
                </a:lnTo>
                <a:lnTo>
                  <a:pt x="23118" y="11609"/>
                </a:ln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8331120" y="430380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23143" y="11956"/>
                </a:moveTo>
                <a:lnTo>
                  <a:pt x="23143" y="11956"/>
                </a:lnTo>
                <a:lnTo>
                  <a:pt x="23143" y="11956"/>
                </a:ln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8323200" y="441972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23118" y="12278"/>
                </a:moveTo>
                <a:lnTo>
                  <a:pt x="23118" y="12278"/>
                </a:lnTo>
                <a:lnTo>
                  <a:pt x="23118" y="12278"/>
                </a:ln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8331120" y="451008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23143" y="12526"/>
                </a:moveTo>
                <a:lnTo>
                  <a:pt x="23143" y="12526"/>
                </a:ln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323200" y="4643280"/>
            <a:ext cx="1800" cy="9720"/>
          </a:xfrm>
          <a:custGeom>
            <a:avLst/>
            <a:gdLst/>
            <a:ahLst/>
            <a:rect l="l" t="t" r="r" b="b"/>
            <a:pathLst>
              <a:path w="1" h="26">
                <a:moveTo>
                  <a:pt x="23118" y="12923"/>
                </a:moveTo>
                <a:cubicBezTo>
                  <a:pt x="23118" y="12915"/>
                  <a:pt x="23118" y="12906"/>
                  <a:pt x="23118" y="12898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8331120" y="477684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23143" y="13271"/>
                </a:moveTo>
                <a:lnTo>
                  <a:pt x="23143" y="13271"/>
                </a:lnTo>
                <a:lnTo>
                  <a:pt x="23143" y="13271"/>
                </a:ln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331120" y="4875120"/>
            <a:ext cx="180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23143" y="13543"/>
                </a:moveTo>
                <a:lnTo>
                  <a:pt x="23143" y="13543"/>
                </a:ln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8323200" y="4991040"/>
            <a:ext cx="180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23118" y="13866"/>
                </a:moveTo>
                <a:lnTo>
                  <a:pt x="23118" y="13866"/>
                </a:lnTo>
                <a:lnTo>
                  <a:pt x="23118" y="13866"/>
                </a:ln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323200" y="5106960"/>
            <a:ext cx="7920" cy="1440"/>
          </a:xfrm>
          <a:custGeom>
            <a:avLst/>
            <a:gdLst/>
            <a:ahLst/>
            <a:rect l="l" t="t" r="r" b="b"/>
            <a:pathLst>
              <a:path w="26" h="1">
                <a:moveTo>
                  <a:pt x="23118" y="14188"/>
                </a:moveTo>
                <a:cubicBezTo>
                  <a:pt x="23126" y="14188"/>
                  <a:pt x="23135" y="14188"/>
                  <a:pt x="23143" y="14188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8304120" y="5224320"/>
            <a:ext cx="9720" cy="9720"/>
          </a:xfrm>
          <a:custGeom>
            <a:avLst/>
            <a:gdLst/>
            <a:ahLst/>
            <a:rect l="l" t="t" r="r" b="b"/>
            <a:pathLst>
              <a:path w="26" h="26">
                <a:moveTo>
                  <a:pt x="23068" y="14536"/>
                </a:moveTo>
                <a:cubicBezTo>
                  <a:pt x="23093" y="14536"/>
                  <a:pt x="23101" y="14536"/>
                  <a:pt x="23093" y="14511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304120" y="532296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23068" y="14784"/>
                </a:moveTo>
                <a:lnTo>
                  <a:pt x="23068" y="14784"/>
                </a:ln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8304120" y="5483160"/>
            <a:ext cx="180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23068" y="15230"/>
                </a:moveTo>
                <a:lnTo>
                  <a:pt x="23068" y="15230"/>
                </a:ln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322960" y="3527280"/>
            <a:ext cx="1357200" cy="1768680"/>
          </a:xfrm>
          <a:custGeom>
            <a:avLst/>
            <a:gdLst/>
            <a:ahLst/>
            <a:rect l="l" t="t" r="r" b="b"/>
            <a:pathLst>
              <a:path w="3771" h="4912">
                <a:moveTo>
                  <a:pt x="14833" y="14387"/>
                </a:moveTo>
                <a:cubicBezTo>
                  <a:pt x="14833" y="14331"/>
                  <a:pt x="14813" y="14353"/>
                  <a:pt x="14808" y="14312"/>
                </a:cubicBezTo>
                <a:cubicBezTo>
                  <a:pt x="14808" y="14288"/>
                  <a:pt x="14808" y="14280"/>
                  <a:pt x="14784" y="14288"/>
                </a:cubicBezTo>
                <a:cubicBezTo>
                  <a:pt x="14784" y="14408"/>
                  <a:pt x="14825" y="14498"/>
                  <a:pt x="14858" y="14610"/>
                </a:cubicBezTo>
                <a:cubicBezTo>
                  <a:pt x="14866" y="14643"/>
                  <a:pt x="14875" y="14676"/>
                  <a:pt x="14883" y="14709"/>
                </a:cubicBezTo>
              </a:path>
              <a:path w="3771" h="4912">
                <a:moveTo>
                  <a:pt x="14883" y="13643"/>
                </a:moveTo>
                <a:cubicBezTo>
                  <a:pt x="14954" y="13766"/>
                  <a:pt x="14984" y="13927"/>
                  <a:pt x="15032" y="14064"/>
                </a:cubicBezTo>
                <a:cubicBezTo>
                  <a:pt x="15067" y="14164"/>
                  <a:pt x="15095" y="14264"/>
                  <a:pt x="15131" y="14362"/>
                </a:cubicBezTo>
              </a:path>
              <a:path w="3771" h="4912">
                <a:moveTo>
                  <a:pt x="14883" y="12874"/>
                </a:moveTo>
                <a:cubicBezTo>
                  <a:pt x="15052" y="13117"/>
                  <a:pt x="15154" y="13375"/>
                  <a:pt x="15280" y="13643"/>
                </a:cubicBezTo>
                <a:cubicBezTo>
                  <a:pt x="15285" y="13653"/>
                  <a:pt x="15404" y="13948"/>
                  <a:pt x="15404" y="13891"/>
                </a:cubicBezTo>
              </a:path>
              <a:path w="3771" h="4912">
                <a:moveTo>
                  <a:pt x="15205" y="11757"/>
                </a:moveTo>
                <a:cubicBezTo>
                  <a:pt x="15205" y="11782"/>
                  <a:pt x="15205" y="11790"/>
                  <a:pt x="15205" y="11807"/>
                </a:cubicBezTo>
              </a:path>
              <a:path w="3771" h="4912">
                <a:moveTo>
                  <a:pt x="15131" y="11906"/>
                </a:moveTo>
                <a:cubicBezTo>
                  <a:pt x="15235" y="12203"/>
                  <a:pt x="15391" y="12489"/>
                  <a:pt x="15528" y="12774"/>
                </a:cubicBezTo>
                <a:cubicBezTo>
                  <a:pt x="15598" y="12920"/>
                  <a:pt x="15685" y="13177"/>
                  <a:pt x="15801" y="13295"/>
                </a:cubicBezTo>
                <a:cubicBezTo>
                  <a:pt x="15801" y="13287"/>
                  <a:pt x="15801" y="13279"/>
                  <a:pt x="15801" y="13271"/>
                </a:cubicBezTo>
              </a:path>
              <a:path w="3771" h="4912">
                <a:moveTo>
                  <a:pt x="14957" y="11212"/>
                </a:moveTo>
                <a:cubicBezTo>
                  <a:pt x="15080" y="11329"/>
                  <a:pt x="15228" y="11480"/>
                  <a:pt x="15329" y="11633"/>
                </a:cubicBezTo>
                <a:cubicBezTo>
                  <a:pt x="15552" y="11972"/>
                  <a:pt x="15722" y="12337"/>
                  <a:pt x="15900" y="12700"/>
                </a:cubicBezTo>
                <a:cubicBezTo>
                  <a:pt x="15963" y="12828"/>
                  <a:pt x="15991" y="12850"/>
                  <a:pt x="16073" y="12948"/>
                </a:cubicBezTo>
              </a:path>
              <a:path w="3771" h="4912">
                <a:moveTo>
                  <a:pt x="15379" y="10641"/>
                </a:moveTo>
                <a:cubicBezTo>
                  <a:pt x="15621" y="10971"/>
                  <a:pt x="15807" y="11296"/>
                  <a:pt x="15999" y="11658"/>
                </a:cubicBezTo>
                <a:cubicBezTo>
                  <a:pt x="16160" y="11962"/>
                  <a:pt x="16294" y="12281"/>
                  <a:pt x="16470" y="12576"/>
                </a:cubicBezTo>
                <a:cubicBezTo>
                  <a:pt x="16462" y="12559"/>
                  <a:pt x="16454" y="12543"/>
                  <a:pt x="16446" y="12526"/>
                </a:cubicBezTo>
              </a:path>
              <a:path w="3771" h="4912">
                <a:moveTo>
                  <a:pt x="15304" y="9872"/>
                </a:moveTo>
                <a:cubicBezTo>
                  <a:pt x="15419" y="9995"/>
                  <a:pt x="15572" y="10171"/>
                  <a:pt x="15677" y="10319"/>
                </a:cubicBezTo>
                <a:cubicBezTo>
                  <a:pt x="15956" y="10712"/>
                  <a:pt x="16243" y="11098"/>
                  <a:pt x="16495" y="11509"/>
                </a:cubicBezTo>
                <a:cubicBezTo>
                  <a:pt x="16596" y="11673"/>
                  <a:pt x="16718" y="11948"/>
                  <a:pt x="16867" y="12080"/>
                </a:cubicBezTo>
                <a:cubicBezTo>
                  <a:pt x="16867" y="12063"/>
                  <a:pt x="16867" y="12047"/>
                  <a:pt x="16867" y="12030"/>
                </a:cubicBezTo>
              </a:path>
              <a:path w="3771" h="4912">
                <a:moveTo>
                  <a:pt x="16148" y="9823"/>
                </a:moveTo>
                <a:cubicBezTo>
                  <a:pt x="16251" y="10008"/>
                  <a:pt x="16384" y="10157"/>
                  <a:pt x="16495" y="10344"/>
                </a:cubicBezTo>
                <a:cubicBezTo>
                  <a:pt x="16694" y="10680"/>
                  <a:pt x="16852" y="11074"/>
                  <a:pt x="17090" y="11385"/>
                </a:cubicBezTo>
                <a:cubicBezTo>
                  <a:pt x="17135" y="11430"/>
                  <a:pt x="17152" y="11454"/>
                  <a:pt x="17140" y="11385"/>
                </a:cubicBezTo>
              </a:path>
              <a:path w="3771" h="4912">
                <a:moveTo>
                  <a:pt x="16743" y="9847"/>
                </a:moveTo>
                <a:cubicBezTo>
                  <a:pt x="16855" y="9997"/>
                  <a:pt x="17015" y="10174"/>
                  <a:pt x="17115" y="10344"/>
                </a:cubicBezTo>
                <a:cubicBezTo>
                  <a:pt x="17149" y="10401"/>
                  <a:pt x="17503" y="11144"/>
                  <a:pt x="17587" y="11137"/>
                </a:cubicBezTo>
                <a:cubicBezTo>
                  <a:pt x="17637" y="11137"/>
                  <a:pt x="17639" y="11112"/>
                  <a:pt x="17587" y="11038"/>
                </a:cubicBezTo>
              </a:path>
              <a:path w="3771" h="4912">
                <a:moveTo>
                  <a:pt x="17264" y="9872"/>
                </a:moveTo>
                <a:cubicBezTo>
                  <a:pt x="17349" y="10015"/>
                  <a:pt x="17515" y="10186"/>
                  <a:pt x="17611" y="10344"/>
                </a:cubicBezTo>
                <a:cubicBezTo>
                  <a:pt x="17613" y="10348"/>
                  <a:pt x="17889" y="10863"/>
                  <a:pt x="17934" y="10840"/>
                </a:cubicBezTo>
                <a:cubicBezTo>
                  <a:pt x="17934" y="10823"/>
                  <a:pt x="17934" y="10807"/>
                  <a:pt x="17934" y="10790"/>
                </a:cubicBezTo>
              </a:path>
              <a:path w="3771" h="4912">
                <a:moveTo>
                  <a:pt x="17884" y="9798"/>
                </a:moveTo>
                <a:cubicBezTo>
                  <a:pt x="17969" y="9933"/>
                  <a:pt x="18043" y="10083"/>
                  <a:pt x="18132" y="10220"/>
                </a:cubicBezTo>
                <a:cubicBezTo>
                  <a:pt x="18191" y="10312"/>
                  <a:pt x="18253" y="10397"/>
                  <a:pt x="18306" y="10492"/>
                </a:cubicBezTo>
              </a:path>
              <a:path w="3771" h="4912">
                <a:moveTo>
                  <a:pt x="18306" y="9847"/>
                </a:moveTo>
                <a:cubicBezTo>
                  <a:pt x="18397" y="9847"/>
                  <a:pt x="18462" y="9947"/>
                  <a:pt x="18504" y="10021"/>
                </a:cubicBezTo>
                <a:cubicBezTo>
                  <a:pt x="18526" y="10088"/>
                  <a:pt x="18531" y="10106"/>
                  <a:pt x="18554" y="10145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840360" y="3633840"/>
            <a:ext cx="1527480" cy="1839960"/>
          </a:xfrm>
          <a:custGeom>
            <a:avLst/>
            <a:gdLst/>
            <a:ahLst/>
            <a:rect l="l" t="t" r="r" b="b"/>
            <a:pathLst>
              <a:path w="4243" h="5110">
                <a:moveTo>
                  <a:pt x="19720" y="10294"/>
                </a:moveTo>
                <a:cubicBezTo>
                  <a:pt x="19674" y="10258"/>
                  <a:pt x="19636" y="10129"/>
                  <a:pt x="19546" y="10120"/>
                </a:cubicBezTo>
                <a:cubicBezTo>
                  <a:pt x="19472" y="10112"/>
                  <a:pt x="19485" y="10150"/>
                  <a:pt x="19397" y="10170"/>
                </a:cubicBezTo>
                <a:cubicBezTo>
                  <a:pt x="19227" y="10209"/>
                  <a:pt x="19202" y="10207"/>
                  <a:pt x="19050" y="10145"/>
                </a:cubicBezTo>
                <a:cubicBezTo>
                  <a:pt x="19027" y="10122"/>
                  <a:pt x="19023" y="10114"/>
                  <a:pt x="19000" y="10120"/>
                </a:cubicBezTo>
                <a:cubicBezTo>
                  <a:pt x="19054" y="10156"/>
                  <a:pt x="19075" y="10154"/>
                  <a:pt x="19124" y="10195"/>
                </a:cubicBezTo>
                <a:cubicBezTo>
                  <a:pt x="19322" y="10361"/>
                  <a:pt x="19510" y="10560"/>
                  <a:pt x="19670" y="10765"/>
                </a:cubicBezTo>
                <a:cubicBezTo>
                  <a:pt x="19844" y="10988"/>
                  <a:pt x="20012" y="11216"/>
                  <a:pt x="20191" y="11435"/>
                </a:cubicBezTo>
                <a:cubicBezTo>
                  <a:pt x="20334" y="11610"/>
                  <a:pt x="20451" y="11802"/>
                  <a:pt x="20588" y="11981"/>
                </a:cubicBezTo>
                <a:cubicBezTo>
                  <a:pt x="20768" y="12216"/>
                  <a:pt x="20957" y="12458"/>
                  <a:pt x="21158" y="12675"/>
                </a:cubicBezTo>
                <a:cubicBezTo>
                  <a:pt x="21268" y="12793"/>
                  <a:pt x="21386" y="12882"/>
                  <a:pt x="21506" y="12973"/>
                </a:cubicBezTo>
                <a:cubicBezTo>
                  <a:pt x="21600" y="13045"/>
                  <a:pt x="21717" y="13120"/>
                  <a:pt x="21803" y="13196"/>
                </a:cubicBezTo>
                <a:cubicBezTo>
                  <a:pt x="21912" y="13291"/>
                  <a:pt x="22026" y="13391"/>
                  <a:pt x="22126" y="13494"/>
                </a:cubicBezTo>
                <a:cubicBezTo>
                  <a:pt x="22224" y="13596"/>
                  <a:pt x="22336" y="13705"/>
                  <a:pt x="22423" y="13816"/>
                </a:cubicBezTo>
                <a:cubicBezTo>
                  <a:pt x="22480" y="13889"/>
                  <a:pt x="22539" y="13984"/>
                  <a:pt x="22597" y="14064"/>
                </a:cubicBezTo>
                <a:cubicBezTo>
                  <a:pt x="22650" y="14136"/>
                  <a:pt x="22698" y="14211"/>
                  <a:pt x="22746" y="14288"/>
                </a:cubicBezTo>
                <a:cubicBezTo>
                  <a:pt x="22801" y="14377"/>
                  <a:pt x="22863" y="14466"/>
                  <a:pt x="22920" y="14560"/>
                </a:cubicBezTo>
                <a:cubicBezTo>
                  <a:pt x="23016" y="14718"/>
                  <a:pt x="23093" y="14888"/>
                  <a:pt x="23168" y="15056"/>
                </a:cubicBezTo>
                <a:cubicBezTo>
                  <a:pt x="23191" y="15107"/>
                  <a:pt x="23217" y="15156"/>
                  <a:pt x="23242" y="15205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054920" y="3589200"/>
            <a:ext cx="1357200" cy="1536840"/>
          </a:xfrm>
          <a:custGeom>
            <a:avLst/>
            <a:gdLst/>
            <a:ahLst/>
            <a:rect l="l" t="t" r="r" b="b"/>
            <a:pathLst>
              <a:path w="3771" h="4268">
                <a:moveTo>
                  <a:pt x="22597" y="10170"/>
                </a:moveTo>
                <a:cubicBezTo>
                  <a:pt x="22617" y="10130"/>
                  <a:pt x="22626" y="10123"/>
                  <a:pt x="22622" y="10096"/>
                </a:cubicBezTo>
                <a:cubicBezTo>
                  <a:pt x="22794" y="10194"/>
                  <a:pt x="22887" y="10415"/>
                  <a:pt x="23019" y="10567"/>
                </a:cubicBezTo>
                <a:cubicBezTo>
                  <a:pt x="23106" y="10668"/>
                  <a:pt x="23202" y="10765"/>
                  <a:pt x="23292" y="10864"/>
                </a:cubicBezTo>
              </a:path>
              <a:path w="3771" h="4268">
                <a:moveTo>
                  <a:pt x="21853" y="10319"/>
                </a:moveTo>
                <a:cubicBezTo>
                  <a:pt x="21830" y="10296"/>
                  <a:pt x="21826" y="10288"/>
                  <a:pt x="21803" y="10294"/>
                </a:cubicBezTo>
                <a:cubicBezTo>
                  <a:pt x="22005" y="10395"/>
                  <a:pt x="22156" y="10518"/>
                  <a:pt x="22324" y="10691"/>
                </a:cubicBezTo>
                <a:cubicBezTo>
                  <a:pt x="22510" y="10883"/>
                  <a:pt x="22643" y="11113"/>
                  <a:pt x="22845" y="11286"/>
                </a:cubicBezTo>
              </a:path>
              <a:path w="3771" h="4268">
                <a:moveTo>
                  <a:pt x="21034" y="10195"/>
                </a:moveTo>
                <a:cubicBezTo>
                  <a:pt x="21203" y="10388"/>
                  <a:pt x="21396" y="10585"/>
                  <a:pt x="21580" y="10765"/>
                </a:cubicBezTo>
                <a:cubicBezTo>
                  <a:pt x="21925" y="11103"/>
                  <a:pt x="22287" y="11407"/>
                  <a:pt x="22622" y="11757"/>
                </a:cubicBezTo>
                <a:cubicBezTo>
                  <a:pt x="22756" y="11897"/>
                  <a:pt x="22894" y="12035"/>
                  <a:pt x="23019" y="12179"/>
                </a:cubicBezTo>
              </a:path>
              <a:path w="3771" h="4268">
                <a:moveTo>
                  <a:pt x="20439" y="10071"/>
                </a:moveTo>
                <a:cubicBezTo>
                  <a:pt x="20431" y="10046"/>
                  <a:pt x="20422" y="10021"/>
                  <a:pt x="20414" y="9996"/>
                </a:cubicBezTo>
                <a:cubicBezTo>
                  <a:pt x="20457" y="10059"/>
                  <a:pt x="20470" y="10082"/>
                  <a:pt x="20513" y="10145"/>
                </a:cubicBezTo>
                <a:cubicBezTo>
                  <a:pt x="20763" y="10509"/>
                  <a:pt x="21068" y="10782"/>
                  <a:pt x="21382" y="11088"/>
                </a:cubicBezTo>
                <a:cubicBezTo>
                  <a:pt x="21748" y="11444"/>
                  <a:pt x="22158" y="11800"/>
                  <a:pt x="22473" y="12204"/>
                </a:cubicBezTo>
                <a:cubicBezTo>
                  <a:pt x="22637" y="12413"/>
                  <a:pt x="22755" y="12610"/>
                  <a:pt x="22944" y="12799"/>
                </a:cubicBezTo>
                <a:cubicBezTo>
                  <a:pt x="23033" y="12888"/>
                  <a:pt x="23115" y="12978"/>
                  <a:pt x="23192" y="13072"/>
                </a:cubicBezTo>
                <a:cubicBezTo>
                  <a:pt x="23233" y="13123"/>
                  <a:pt x="23274" y="13171"/>
                  <a:pt x="23316" y="13221"/>
                </a:cubicBezTo>
              </a:path>
              <a:path w="3771" h="4268">
                <a:moveTo>
                  <a:pt x="19720" y="10145"/>
                </a:moveTo>
                <a:cubicBezTo>
                  <a:pt x="19678" y="10120"/>
                  <a:pt x="19647" y="10106"/>
                  <a:pt x="19596" y="10071"/>
                </a:cubicBezTo>
                <a:cubicBezTo>
                  <a:pt x="19658" y="10131"/>
                  <a:pt x="19690" y="10129"/>
                  <a:pt x="19745" y="10195"/>
                </a:cubicBezTo>
                <a:cubicBezTo>
                  <a:pt x="19927" y="10413"/>
                  <a:pt x="20088" y="10635"/>
                  <a:pt x="20290" y="10840"/>
                </a:cubicBezTo>
                <a:cubicBezTo>
                  <a:pt x="20523" y="11076"/>
                  <a:pt x="20705" y="11327"/>
                  <a:pt x="20910" y="11584"/>
                </a:cubicBezTo>
                <a:cubicBezTo>
                  <a:pt x="21141" y="11874"/>
                  <a:pt x="21351" y="12180"/>
                  <a:pt x="21605" y="12452"/>
                </a:cubicBezTo>
                <a:cubicBezTo>
                  <a:pt x="21814" y="12676"/>
                  <a:pt x="22027" y="12888"/>
                  <a:pt x="22250" y="13097"/>
                </a:cubicBezTo>
                <a:cubicBezTo>
                  <a:pt x="22484" y="13317"/>
                  <a:pt x="22709" y="13548"/>
                  <a:pt x="22944" y="13767"/>
                </a:cubicBezTo>
                <a:cubicBezTo>
                  <a:pt x="23063" y="13879"/>
                  <a:pt x="23246" y="14006"/>
                  <a:pt x="23341" y="14139"/>
                </a:cubicBezTo>
                <a:cubicBezTo>
                  <a:pt x="23369" y="14178"/>
                  <a:pt x="23347" y="14210"/>
                  <a:pt x="23366" y="14238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428840" y="672480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3969" y="18678"/>
                </a:moveTo>
                <a:lnTo>
                  <a:pt x="3969" y="18678"/>
                </a:lnTo>
                <a:lnTo>
                  <a:pt x="3969" y="18678"/>
                </a:lnTo>
                <a:lnTo>
                  <a:pt x="3969" y="18678"/>
                </a:ln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303200" y="6643800"/>
            <a:ext cx="36720" cy="9360"/>
          </a:xfrm>
          <a:custGeom>
            <a:avLst/>
            <a:gdLst/>
            <a:ahLst/>
            <a:rect l="l" t="t" r="r" b="b"/>
            <a:pathLst>
              <a:path w="101" h="25">
                <a:moveTo>
                  <a:pt x="3721" y="18479"/>
                </a:moveTo>
                <a:cubicBezTo>
                  <a:pt x="3678" y="18479"/>
                  <a:pt x="3653" y="18474"/>
                  <a:pt x="3621" y="18455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500"/>
                            </p:stCondLst>
                            <p:childTnLst>
                              <p:par>
                                <p:cTn id="150" nodeType="afterEffect" fill="hold" presetClass="entr" presetID="3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513000" y="33012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nd the Area of the triang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X1.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= 4ft  h= 11f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2438280" y="2895480"/>
          <a:ext cx="1168560" cy="939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2895480"/>
                    <a:ext cx="1168560" cy="93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5" name=""/>
          <p:cNvGraphicFramePr/>
          <p:nvPr/>
        </p:nvGraphicFramePr>
        <p:xfrm>
          <a:off x="2565360" y="1371600"/>
          <a:ext cx="914400" cy="371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65360" y="1371600"/>
                    <a:ext cx="914400" cy="37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7" name=""/>
          <p:cNvGraphicFramePr/>
          <p:nvPr/>
        </p:nvGraphicFramePr>
        <p:xfrm>
          <a:off x="2209680" y="3962520"/>
          <a:ext cx="1600200" cy="939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09680" y="3962520"/>
                    <a:ext cx="1600200" cy="93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9" name=""/>
          <p:cNvGraphicFramePr/>
          <p:nvPr/>
        </p:nvGraphicFramePr>
        <p:xfrm>
          <a:off x="2362320" y="4952880"/>
          <a:ext cx="1168200" cy="939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362320" y="4952880"/>
                    <a:ext cx="1168200" cy="93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1" name=""/>
          <p:cNvGraphicFramePr/>
          <p:nvPr/>
        </p:nvGraphicFramePr>
        <p:xfrm>
          <a:off x="2286000" y="6019920"/>
          <a:ext cx="1574640" cy="5079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286000" y="6019920"/>
                    <a:ext cx="157464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3" name=""/>
          <p:cNvSpPr/>
          <p:nvPr/>
        </p:nvSpPr>
        <p:spPr>
          <a:xfrm>
            <a:off x="680760" y="228600"/>
            <a:ext cx="8001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jective:  Students will find the area of a triang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513000" y="33012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nd the Area of the triangle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)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2m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12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1.5cm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4c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)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5yd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8y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)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12km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4k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28480" y="228600"/>
            <a:ext cx="8001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jective:  Students will find the area of a triang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160960" y="2411280"/>
            <a:ext cx="1866960" cy="642960"/>
          </a:xfrm>
          <a:custGeom>
            <a:avLst/>
            <a:gdLst/>
            <a:ahLst/>
            <a:rect l="l" t="t" r="r" b="b"/>
            <a:pathLst>
              <a:path w="5185" h="1787">
                <a:moveTo>
                  <a:pt x="14362" y="7069"/>
                </a:moveTo>
                <a:cubicBezTo>
                  <a:pt x="14394" y="6943"/>
                  <a:pt x="14387" y="7137"/>
                  <a:pt x="14387" y="7169"/>
                </a:cubicBezTo>
                <a:cubicBezTo>
                  <a:pt x="14387" y="7295"/>
                  <a:pt x="14368" y="7663"/>
                  <a:pt x="14337" y="7541"/>
                </a:cubicBezTo>
                <a:cubicBezTo>
                  <a:pt x="14337" y="7496"/>
                  <a:pt x="14334" y="7483"/>
                  <a:pt x="14362" y="7466"/>
                </a:cubicBezTo>
                <a:cubicBezTo>
                  <a:pt x="14372" y="7270"/>
                  <a:pt x="14395" y="7063"/>
                  <a:pt x="14436" y="6871"/>
                </a:cubicBezTo>
                <a:cubicBezTo>
                  <a:pt x="14454" y="6789"/>
                  <a:pt x="14478" y="6718"/>
                  <a:pt x="14560" y="6697"/>
                </a:cubicBezTo>
                <a:cubicBezTo>
                  <a:pt x="14675" y="6855"/>
                  <a:pt x="14717" y="7017"/>
                  <a:pt x="14734" y="7218"/>
                </a:cubicBezTo>
                <a:cubicBezTo>
                  <a:pt x="14741" y="7299"/>
                  <a:pt x="14734" y="7384"/>
                  <a:pt x="14734" y="7466"/>
                </a:cubicBezTo>
              </a:path>
              <a:path w="5185" h="1787">
                <a:moveTo>
                  <a:pt x="14412" y="7293"/>
                </a:moveTo>
                <a:cubicBezTo>
                  <a:pt x="14451" y="7240"/>
                  <a:pt x="14579" y="7207"/>
                  <a:pt x="14660" y="7193"/>
                </a:cubicBezTo>
                <a:cubicBezTo>
                  <a:pt x="14701" y="7193"/>
                  <a:pt x="14709" y="7193"/>
                  <a:pt x="14734" y="7193"/>
                </a:cubicBezTo>
              </a:path>
              <a:path w="5185" h="1787">
                <a:moveTo>
                  <a:pt x="15081" y="7144"/>
                </a:moveTo>
                <a:cubicBezTo>
                  <a:pt x="15164" y="7130"/>
                  <a:pt x="15246" y="7109"/>
                  <a:pt x="15329" y="7094"/>
                </a:cubicBezTo>
                <a:cubicBezTo>
                  <a:pt x="15354" y="7094"/>
                  <a:pt x="15362" y="7094"/>
                  <a:pt x="15354" y="7119"/>
                </a:cubicBezTo>
              </a:path>
              <a:path w="5185" h="1787">
                <a:moveTo>
                  <a:pt x="15156" y="7342"/>
                </a:moveTo>
                <a:cubicBezTo>
                  <a:pt x="15247" y="7342"/>
                  <a:pt x="15319" y="7328"/>
                  <a:pt x="15404" y="7317"/>
                </a:cubicBezTo>
              </a:path>
              <a:path w="5185" h="1787">
                <a:moveTo>
                  <a:pt x="15627" y="6846"/>
                </a:moveTo>
                <a:cubicBezTo>
                  <a:pt x="15646" y="7000"/>
                  <a:pt x="15710" y="7138"/>
                  <a:pt x="15726" y="7293"/>
                </a:cubicBezTo>
                <a:cubicBezTo>
                  <a:pt x="15726" y="7394"/>
                  <a:pt x="15716" y="7415"/>
                  <a:pt x="15751" y="7466"/>
                </a:cubicBezTo>
                <a:cubicBezTo>
                  <a:pt x="15761" y="7381"/>
                  <a:pt x="15764" y="7272"/>
                  <a:pt x="15801" y="7193"/>
                </a:cubicBezTo>
                <a:cubicBezTo>
                  <a:pt x="15816" y="7160"/>
                  <a:pt x="15889" y="7069"/>
                  <a:pt x="15925" y="7069"/>
                </a:cubicBezTo>
                <a:cubicBezTo>
                  <a:pt x="16023" y="7069"/>
                  <a:pt x="16060" y="7194"/>
                  <a:pt x="16073" y="7268"/>
                </a:cubicBezTo>
                <a:cubicBezTo>
                  <a:pt x="16092" y="7375"/>
                  <a:pt x="16033" y="7432"/>
                  <a:pt x="15949" y="7466"/>
                </a:cubicBezTo>
                <a:cubicBezTo>
                  <a:pt x="15880" y="7494"/>
                  <a:pt x="15822" y="7491"/>
                  <a:pt x="15751" y="7491"/>
                </a:cubicBezTo>
              </a:path>
              <a:path w="5185" h="1787">
                <a:moveTo>
                  <a:pt x="16098" y="6821"/>
                </a:moveTo>
                <a:cubicBezTo>
                  <a:pt x="16114" y="6935"/>
                  <a:pt x="16154" y="7062"/>
                  <a:pt x="16197" y="7169"/>
                </a:cubicBezTo>
                <a:cubicBezTo>
                  <a:pt x="16235" y="7263"/>
                  <a:pt x="16272" y="7316"/>
                  <a:pt x="16272" y="7417"/>
                </a:cubicBezTo>
                <a:cubicBezTo>
                  <a:pt x="16272" y="7441"/>
                  <a:pt x="16272" y="7449"/>
                  <a:pt x="16272" y="7417"/>
                </a:cubicBezTo>
                <a:cubicBezTo>
                  <a:pt x="16272" y="7336"/>
                  <a:pt x="16268" y="7271"/>
                  <a:pt x="16297" y="7193"/>
                </a:cubicBezTo>
                <a:cubicBezTo>
                  <a:pt x="16320" y="7130"/>
                  <a:pt x="16364" y="7113"/>
                  <a:pt x="16421" y="7144"/>
                </a:cubicBezTo>
                <a:cubicBezTo>
                  <a:pt x="16528" y="7202"/>
                  <a:pt x="16540" y="7304"/>
                  <a:pt x="16545" y="7417"/>
                </a:cubicBezTo>
                <a:cubicBezTo>
                  <a:pt x="16547" y="7458"/>
                  <a:pt x="16545" y="7500"/>
                  <a:pt x="16545" y="7541"/>
                </a:cubicBezTo>
              </a:path>
              <a:path w="5185" h="1787">
                <a:moveTo>
                  <a:pt x="15751" y="7739"/>
                </a:moveTo>
                <a:cubicBezTo>
                  <a:pt x="15845" y="7682"/>
                  <a:pt x="15985" y="7691"/>
                  <a:pt x="16098" y="7689"/>
                </a:cubicBezTo>
                <a:cubicBezTo>
                  <a:pt x="16249" y="7686"/>
                  <a:pt x="16334" y="7700"/>
                  <a:pt x="16470" y="7739"/>
                </a:cubicBezTo>
                <a:cubicBezTo>
                  <a:pt x="16495" y="7739"/>
                  <a:pt x="16503" y="7739"/>
                  <a:pt x="16520" y="7739"/>
                </a:cubicBezTo>
              </a:path>
              <a:path w="5185" h="1787">
                <a:moveTo>
                  <a:pt x="16098" y="8012"/>
                </a:moveTo>
                <a:cubicBezTo>
                  <a:pt x="16048" y="7995"/>
                  <a:pt x="16092" y="7928"/>
                  <a:pt x="16123" y="7888"/>
                </a:cubicBezTo>
                <a:cubicBezTo>
                  <a:pt x="16170" y="7828"/>
                  <a:pt x="16226" y="7822"/>
                  <a:pt x="16297" y="7813"/>
                </a:cubicBezTo>
                <a:cubicBezTo>
                  <a:pt x="16317" y="7861"/>
                  <a:pt x="16341" y="7933"/>
                  <a:pt x="16321" y="7987"/>
                </a:cubicBezTo>
                <a:cubicBezTo>
                  <a:pt x="16297" y="8050"/>
                  <a:pt x="16234" y="8079"/>
                  <a:pt x="16173" y="8111"/>
                </a:cubicBezTo>
                <a:cubicBezTo>
                  <a:pt x="16107" y="8146"/>
                  <a:pt x="16061" y="8128"/>
                  <a:pt x="16024" y="8186"/>
                </a:cubicBezTo>
                <a:cubicBezTo>
                  <a:pt x="15965" y="8278"/>
                  <a:pt x="15931" y="8351"/>
                  <a:pt x="15925" y="8458"/>
                </a:cubicBezTo>
                <a:cubicBezTo>
                  <a:pt x="15925" y="8466"/>
                  <a:pt x="15925" y="8475"/>
                  <a:pt x="15925" y="8483"/>
                </a:cubicBezTo>
                <a:cubicBezTo>
                  <a:pt x="15936" y="8427"/>
                  <a:pt x="15968" y="8362"/>
                  <a:pt x="16024" y="8334"/>
                </a:cubicBezTo>
                <a:cubicBezTo>
                  <a:pt x="16067" y="8313"/>
                  <a:pt x="16109" y="8312"/>
                  <a:pt x="16148" y="8334"/>
                </a:cubicBezTo>
                <a:cubicBezTo>
                  <a:pt x="16249" y="8393"/>
                  <a:pt x="16193" y="8409"/>
                  <a:pt x="16297" y="8409"/>
                </a:cubicBezTo>
                <a:cubicBezTo>
                  <a:pt x="16305" y="8409"/>
                  <a:pt x="16313" y="8409"/>
                  <a:pt x="16321" y="8409"/>
                </a:cubicBezTo>
              </a:path>
              <a:path w="5185" h="1787">
                <a:moveTo>
                  <a:pt x="16942" y="7516"/>
                </a:moveTo>
                <a:cubicBezTo>
                  <a:pt x="16934" y="7516"/>
                  <a:pt x="16925" y="7516"/>
                  <a:pt x="16917" y="7516"/>
                </a:cubicBezTo>
                <a:cubicBezTo>
                  <a:pt x="16969" y="7506"/>
                  <a:pt x="17013" y="7470"/>
                  <a:pt x="17066" y="7466"/>
                </a:cubicBezTo>
                <a:cubicBezTo>
                  <a:pt x="17107" y="7466"/>
                  <a:pt x="17115" y="7466"/>
                  <a:pt x="17140" y="7466"/>
                </a:cubicBezTo>
              </a:path>
              <a:path w="5185" h="1787">
                <a:moveTo>
                  <a:pt x="16892" y="7739"/>
                </a:moveTo>
                <a:cubicBezTo>
                  <a:pt x="16971" y="7752"/>
                  <a:pt x="17032" y="7764"/>
                  <a:pt x="17115" y="7764"/>
                </a:cubicBezTo>
                <a:cubicBezTo>
                  <a:pt x="17140" y="7764"/>
                  <a:pt x="17165" y="7764"/>
                  <a:pt x="17190" y="7764"/>
                </a:cubicBezTo>
              </a:path>
              <a:path w="5185" h="1787">
                <a:moveTo>
                  <a:pt x="17686" y="6995"/>
                </a:moveTo>
                <a:cubicBezTo>
                  <a:pt x="17708" y="6966"/>
                  <a:pt x="17719" y="7003"/>
                  <a:pt x="17735" y="6970"/>
                </a:cubicBezTo>
                <a:cubicBezTo>
                  <a:pt x="17745" y="6949"/>
                  <a:pt x="17801" y="6891"/>
                  <a:pt x="17835" y="6871"/>
                </a:cubicBezTo>
                <a:cubicBezTo>
                  <a:pt x="17872" y="6849"/>
                  <a:pt x="17933" y="6880"/>
                  <a:pt x="17959" y="6896"/>
                </a:cubicBezTo>
                <a:cubicBezTo>
                  <a:pt x="17947" y="6992"/>
                  <a:pt x="17902" y="7015"/>
                  <a:pt x="17859" y="7094"/>
                </a:cubicBezTo>
                <a:cubicBezTo>
                  <a:pt x="17842" y="7125"/>
                  <a:pt x="17819" y="7131"/>
                  <a:pt x="17785" y="7169"/>
                </a:cubicBezTo>
                <a:cubicBezTo>
                  <a:pt x="17742" y="7216"/>
                  <a:pt x="17723" y="7248"/>
                  <a:pt x="17686" y="7293"/>
                </a:cubicBezTo>
                <a:cubicBezTo>
                  <a:pt x="17652" y="7334"/>
                  <a:pt x="17641" y="7377"/>
                  <a:pt x="17611" y="7417"/>
                </a:cubicBezTo>
                <a:cubicBezTo>
                  <a:pt x="17647" y="7367"/>
                  <a:pt x="17699" y="7317"/>
                  <a:pt x="17760" y="7293"/>
                </a:cubicBezTo>
                <a:cubicBezTo>
                  <a:pt x="17768" y="7293"/>
                  <a:pt x="17777" y="7293"/>
                  <a:pt x="17785" y="7293"/>
                </a:cubicBezTo>
                <a:cubicBezTo>
                  <a:pt x="17822" y="7366"/>
                  <a:pt x="17828" y="7432"/>
                  <a:pt x="17909" y="7441"/>
                </a:cubicBezTo>
                <a:cubicBezTo>
                  <a:pt x="17962" y="7447"/>
                  <a:pt x="17971" y="7452"/>
                  <a:pt x="17983" y="7417"/>
                </a:cubicBezTo>
              </a:path>
              <a:path w="5185" h="1787">
                <a:moveTo>
                  <a:pt x="18455" y="6796"/>
                </a:moveTo>
                <a:cubicBezTo>
                  <a:pt x="18504" y="6796"/>
                  <a:pt x="18440" y="6809"/>
                  <a:pt x="18430" y="6821"/>
                </a:cubicBezTo>
                <a:cubicBezTo>
                  <a:pt x="18368" y="6897"/>
                  <a:pt x="18337" y="6985"/>
                  <a:pt x="18306" y="7069"/>
                </a:cubicBezTo>
                <a:cubicBezTo>
                  <a:pt x="18288" y="7119"/>
                  <a:pt x="18246" y="7191"/>
                  <a:pt x="18256" y="7243"/>
                </a:cubicBezTo>
                <a:cubicBezTo>
                  <a:pt x="18269" y="7314"/>
                  <a:pt x="18303" y="7402"/>
                  <a:pt x="18331" y="7466"/>
                </a:cubicBezTo>
                <a:cubicBezTo>
                  <a:pt x="18353" y="7516"/>
                  <a:pt x="18385" y="7539"/>
                  <a:pt x="18405" y="7565"/>
                </a:cubicBezTo>
                <a:cubicBezTo>
                  <a:pt x="18413" y="7573"/>
                  <a:pt x="18422" y="7582"/>
                  <a:pt x="18430" y="7590"/>
                </a:cubicBezTo>
              </a:path>
              <a:path w="5185" h="1787">
                <a:moveTo>
                  <a:pt x="18628" y="7069"/>
                </a:moveTo>
                <a:cubicBezTo>
                  <a:pt x="18628" y="7045"/>
                  <a:pt x="18628" y="7036"/>
                  <a:pt x="18628" y="7020"/>
                </a:cubicBezTo>
                <a:cubicBezTo>
                  <a:pt x="18654" y="7134"/>
                  <a:pt x="18608" y="7264"/>
                  <a:pt x="18604" y="7392"/>
                </a:cubicBezTo>
                <a:cubicBezTo>
                  <a:pt x="18604" y="7453"/>
                  <a:pt x="18613" y="7469"/>
                  <a:pt x="18579" y="7491"/>
                </a:cubicBezTo>
              </a:path>
              <a:path w="5185" h="1787">
                <a:moveTo>
                  <a:pt x="18777" y="7119"/>
                </a:moveTo>
                <a:cubicBezTo>
                  <a:pt x="18816" y="7090"/>
                  <a:pt x="18854" y="7070"/>
                  <a:pt x="18901" y="7045"/>
                </a:cubicBezTo>
                <a:cubicBezTo>
                  <a:pt x="18918" y="7037"/>
                  <a:pt x="18934" y="7028"/>
                  <a:pt x="18951" y="7020"/>
                </a:cubicBezTo>
                <a:cubicBezTo>
                  <a:pt x="18963" y="7078"/>
                  <a:pt x="19000" y="7155"/>
                  <a:pt x="18976" y="7218"/>
                </a:cubicBezTo>
                <a:cubicBezTo>
                  <a:pt x="18966" y="7244"/>
                  <a:pt x="18873" y="7378"/>
                  <a:pt x="18852" y="7392"/>
                </a:cubicBezTo>
                <a:cubicBezTo>
                  <a:pt x="18844" y="7392"/>
                  <a:pt x="18835" y="7392"/>
                  <a:pt x="18827" y="7392"/>
                </a:cubicBezTo>
                <a:cubicBezTo>
                  <a:pt x="18901" y="7392"/>
                  <a:pt x="18976" y="7392"/>
                  <a:pt x="19050" y="7392"/>
                </a:cubicBezTo>
              </a:path>
              <a:path w="5185" h="1787">
                <a:moveTo>
                  <a:pt x="19075" y="6796"/>
                </a:moveTo>
                <a:cubicBezTo>
                  <a:pt x="19156" y="6796"/>
                  <a:pt x="19143" y="6830"/>
                  <a:pt x="19199" y="6896"/>
                </a:cubicBezTo>
                <a:cubicBezTo>
                  <a:pt x="19275" y="6986"/>
                  <a:pt x="19294" y="7074"/>
                  <a:pt x="19298" y="7193"/>
                </a:cubicBezTo>
                <a:cubicBezTo>
                  <a:pt x="19303" y="7322"/>
                  <a:pt x="19281" y="7351"/>
                  <a:pt x="19224" y="7441"/>
                </a:cubicBezTo>
                <a:cubicBezTo>
                  <a:pt x="19210" y="7464"/>
                  <a:pt x="19205" y="7512"/>
                  <a:pt x="19199" y="7541"/>
                </a:cubicBezTo>
              </a:path>
              <a:path w="5185" h="1787">
                <a:moveTo>
                  <a:pt x="18058" y="7739"/>
                </a:moveTo>
                <a:cubicBezTo>
                  <a:pt x="18325" y="7739"/>
                  <a:pt x="18589" y="7738"/>
                  <a:pt x="18852" y="7764"/>
                </a:cubicBezTo>
                <a:cubicBezTo>
                  <a:pt x="18923" y="7771"/>
                  <a:pt x="18989" y="7801"/>
                  <a:pt x="19050" y="7764"/>
                </a:cubicBezTo>
                <a:cubicBezTo>
                  <a:pt x="19050" y="7756"/>
                  <a:pt x="19050" y="7747"/>
                  <a:pt x="19050" y="7739"/>
                </a:cubicBezTo>
              </a:path>
              <a:path w="5185" h="1787">
                <a:moveTo>
                  <a:pt x="18355" y="8012"/>
                </a:moveTo>
                <a:cubicBezTo>
                  <a:pt x="18347" y="8012"/>
                  <a:pt x="18339" y="8012"/>
                  <a:pt x="18331" y="8012"/>
                </a:cubicBezTo>
                <a:cubicBezTo>
                  <a:pt x="18331" y="7934"/>
                  <a:pt x="18374" y="7957"/>
                  <a:pt x="18430" y="7913"/>
                </a:cubicBezTo>
                <a:cubicBezTo>
                  <a:pt x="18485" y="7870"/>
                  <a:pt x="18516" y="7807"/>
                  <a:pt x="18579" y="7863"/>
                </a:cubicBezTo>
                <a:cubicBezTo>
                  <a:pt x="18659" y="7934"/>
                  <a:pt x="18622" y="7967"/>
                  <a:pt x="18579" y="8037"/>
                </a:cubicBezTo>
                <a:cubicBezTo>
                  <a:pt x="18548" y="8088"/>
                  <a:pt x="18488" y="8138"/>
                  <a:pt x="18430" y="8161"/>
                </a:cubicBezTo>
                <a:cubicBezTo>
                  <a:pt x="18368" y="8186"/>
                  <a:pt x="18325" y="8198"/>
                  <a:pt x="18281" y="8260"/>
                </a:cubicBezTo>
                <a:cubicBezTo>
                  <a:pt x="18258" y="8292"/>
                  <a:pt x="18240" y="8325"/>
                  <a:pt x="18231" y="8359"/>
                </a:cubicBezTo>
                <a:cubicBezTo>
                  <a:pt x="18276" y="8315"/>
                  <a:pt x="18318" y="8256"/>
                  <a:pt x="18380" y="8235"/>
                </a:cubicBezTo>
                <a:cubicBezTo>
                  <a:pt x="18410" y="8225"/>
                  <a:pt x="18459" y="8247"/>
                  <a:pt x="18479" y="8260"/>
                </a:cubicBezTo>
                <a:cubicBezTo>
                  <a:pt x="18509" y="8280"/>
                  <a:pt x="18565" y="8345"/>
                  <a:pt x="18604" y="8334"/>
                </a:cubicBezTo>
                <a:cubicBezTo>
                  <a:pt x="18653" y="8310"/>
                  <a:pt x="18670" y="8302"/>
                  <a:pt x="18703" y="8285"/>
                </a:cubicBezTo>
              </a:path>
              <a:path w="5185" h="1787">
                <a:moveTo>
                  <a:pt x="19199" y="7813"/>
                </a:moveTo>
                <a:cubicBezTo>
                  <a:pt x="19288" y="7774"/>
                  <a:pt x="19351" y="7764"/>
                  <a:pt x="19447" y="7764"/>
                </a:cubicBezTo>
                <a:cubicBezTo>
                  <a:pt x="19479" y="7764"/>
                  <a:pt x="19491" y="7781"/>
                  <a:pt x="19521" y="7789"/>
                </a:cubicBezTo>
              </a:path>
              <a:path w="5185" h="1787">
                <a:moveTo>
                  <a:pt x="19199" y="7962"/>
                </a:moveTo>
                <a:cubicBezTo>
                  <a:pt x="19276" y="7991"/>
                  <a:pt x="19337" y="7987"/>
                  <a:pt x="19422" y="7987"/>
                </a:cubicBezTo>
                <a:cubicBezTo>
                  <a:pt x="19430" y="7987"/>
                  <a:pt x="19439" y="7987"/>
                  <a:pt x="19447" y="7987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215120" y="2509920"/>
            <a:ext cx="1278000" cy="482400"/>
          </a:xfrm>
          <a:custGeom>
            <a:avLst/>
            <a:gdLst/>
            <a:ahLst/>
            <a:rect l="l" t="t" r="r" b="b"/>
            <a:pathLst>
              <a:path w="3548" h="1341">
                <a:moveTo>
                  <a:pt x="20290" y="6995"/>
                </a:moveTo>
                <a:cubicBezTo>
                  <a:pt x="20256" y="7064"/>
                  <a:pt x="20201" y="7096"/>
                  <a:pt x="20141" y="7144"/>
                </a:cubicBezTo>
                <a:cubicBezTo>
                  <a:pt x="20155" y="7072"/>
                  <a:pt x="20193" y="7023"/>
                  <a:pt x="20265" y="6995"/>
                </a:cubicBezTo>
                <a:cubicBezTo>
                  <a:pt x="20385" y="6949"/>
                  <a:pt x="20330" y="7268"/>
                  <a:pt x="20315" y="7293"/>
                </a:cubicBezTo>
                <a:cubicBezTo>
                  <a:pt x="20265" y="7378"/>
                  <a:pt x="20133" y="7486"/>
                  <a:pt x="20042" y="7516"/>
                </a:cubicBezTo>
                <a:cubicBezTo>
                  <a:pt x="20042" y="7437"/>
                  <a:pt x="20043" y="7363"/>
                  <a:pt x="20141" y="7342"/>
                </a:cubicBezTo>
                <a:cubicBezTo>
                  <a:pt x="20210" y="7327"/>
                  <a:pt x="20292" y="7354"/>
                  <a:pt x="20315" y="7417"/>
                </a:cubicBezTo>
                <a:cubicBezTo>
                  <a:pt x="20315" y="7425"/>
                  <a:pt x="20315" y="7433"/>
                  <a:pt x="20315" y="7441"/>
                </a:cubicBezTo>
              </a:path>
              <a:path w="3548" h="1341">
                <a:moveTo>
                  <a:pt x="20563" y="7045"/>
                </a:moveTo>
                <a:cubicBezTo>
                  <a:pt x="20581" y="7135"/>
                  <a:pt x="20557" y="7155"/>
                  <a:pt x="20538" y="7243"/>
                </a:cubicBezTo>
                <a:cubicBezTo>
                  <a:pt x="20538" y="7260"/>
                  <a:pt x="20538" y="7276"/>
                  <a:pt x="20538" y="7293"/>
                </a:cubicBezTo>
                <a:cubicBezTo>
                  <a:pt x="20629" y="7293"/>
                  <a:pt x="20720" y="7293"/>
                  <a:pt x="20811" y="7293"/>
                </a:cubicBezTo>
              </a:path>
              <a:path w="3548" h="1341">
                <a:moveTo>
                  <a:pt x="20861" y="6970"/>
                </a:moveTo>
                <a:cubicBezTo>
                  <a:pt x="20841" y="7106"/>
                  <a:pt x="20777" y="7229"/>
                  <a:pt x="20762" y="7367"/>
                </a:cubicBezTo>
                <a:cubicBezTo>
                  <a:pt x="20753" y="7453"/>
                  <a:pt x="20746" y="7531"/>
                  <a:pt x="20737" y="7615"/>
                </a:cubicBezTo>
              </a:path>
              <a:path w="3548" h="1341">
                <a:moveTo>
                  <a:pt x="20042" y="7689"/>
                </a:moveTo>
                <a:cubicBezTo>
                  <a:pt x="20208" y="7678"/>
                  <a:pt x="20373" y="7652"/>
                  <a:pt x="20538" y="7640"/>
                </a:cubicBezTo>
                <a:cubicBezTo>
                  <a:pt x="20642" y="7633"/>
                  <a:pt x="20747" y="7641"/>
                  <a:pt x="20836" y="7665"/>
                </a:cubicBezTo>
                <a:cubicBezTo>
                  <a:pt x="20844" y="7665"/>
                  <a:pt x="20853" y="7665"/>
                  <a:pt x="20861" y="7665"/>
                </a:cubicBezTo>
              </a:path>
              <a:path w="3548" h="1341">
                <a:moveTo>
                  <a:pt x="20365" y="7888"/>
                </a:moveTo>
                <a:cubicBezTo>
                  <a:pt x="20401" y="7879"/>
                  <a:pt x="20427" y="7859"/>
                  <a:pt x="20464" y="7838"/>
                </a:cubicBezTo>
                <a:cubicBezTo>
                  <a:pt x="20549" y="7924"/>
                  <a:pt x="20564" y="8032"/>
                  <a:pt x="20464" y="8136"/>
                </a:cubicBezTo>
                <a:cubicBezTo>
                  <a:pt x="20415" y="8187"/>
                  <a:pt x="20256" y="8294"/>
                  <a:pt x="20191" y="8210"/>
                </a:cubicBezTo>
                <a:cubicBezTo>
                  <a:pt x="20183" y="8194"/>
                  <a:pt x="20174" y="8177"/>
                  <a:pt x="20166" y="8161"/>
                </a:cubicBezTo>
                <a:cubicBezTo>
                  <a:pt x="20272" y="8125"/>
                  <a:pt x="20318" y="8111"/>
                  <a:pt x="20439" y="8111"/>
                </a:cubicBezTo>
                <a:cubicBezTo>
                  <a:pt x="20557" y="8111"/>
                  <a:pt x="20589" y="8156"/>
                  <a:pt x="20613" y="8260"/>
                </a:cubicBezTo>
                <a:cubicBezTo>
                  <a:pt x="20613" y="8285"/>
                  <a:pt x="20613" y="8293"/>
                  <a:pt x="20613" y="8310"/>
                </a:cubicBezTo>
              </a:path>
              <a:path w="3548" h="1341">
                <a:moveTo>
                  <a:pt x="21109" y="7689"/>
                </a:moveTo>
                <a:cubicBezTo>
                  <a:pt x="21119" y="7661"/>
                  <a:pt x="21241" y="7636"/>
                  <a:pt x="21282" y="7640"/>
                </a:cubicBezTo>
                <a:cubicBezTo>
                  <a:pt x="21322" y="7644"/>
                  <a:pt x="21340" y="7665"/>
                  <a:pt x="21382" y="7665"/>
                </a:cubicBezTo>
              </a:path>
              <a:path w="3548" h="1341">
                <a:moveTo>
                  <a:pt x="21109" y="7838"/>
                </a:moveTo>
                <a:cubicBezTo>
                  <a:pt x="21175" y="7838"/>
                  <a:pt x="21241" y="7838"/>
                  <a:pt x="21307" y="7838"/>
                </a:cubicBezTo>
              </a:path>
              <a:path w="3548" h="1341">
                <a:moveTo>
                  <a:pt x="21853" y="7293"/>
                </a:moveTo>
                <a:cubicBezTo>
                  <a:pt x="21863" y="7254"/>
                  <a:pt x="21896" y="7233"/>
                  <a:pt x="21903" y="7218"/>
                </a:cubicBezTo>
                <a:cubicBezTo>
                  <a:pt x="21941" y="7142"/>
                  <a:pt x="21872" y="7334"/>
                  <a:pt x="21853" y="7417"/>
                </a:cubicBezTo>
                <a:cubicBezTo>
                  <a:pt x="21816" y="7581"/>
                  <a:pt x="21798" y="7771"/>
                  <a:pt x="21704" y="7913"/>
                </a:cubicBezTo>
              </a:path>
              <a:path w="3548" h="1341">
                <a:moveTo>
                  <a:pt x="22151" y="7243"/>
                </a:moveTo>
                <a:cubicBezTo>
                  <a:pt x="22151" y="7268"/>
                  <a:pt x="22151" y="7276"/>
                  <a:pt x="22151" y="7293"/>
                </a:cubicBezTo>
                <a:cubicBezTo>
                  <a:pt x="22155" y="7268"/>
                  <a:pt x="22177" y="7151"/>
                  <a:pt x="22225" y="7169"/>
                </a:cubicBezTo>
                <a:cubicBezTo>
                  <a:pt x="22359" y="7218"/>
                  <a:pt x="22344" y="7381"/>
                  <a:pt x="22299" y="7491"/>
                </a:cubicBezTo>
                <a:cubicBezTo>
                  <a:pt x="22244" y="7625"/>
                  <a:pt x="22090" y="7784"/>
                  <a:pt x="21952" y="7838"/>
                </a:cubicBezTo>
                <a:cubicBezTo>
                  <a:pt x="21936" y="7838"/>
                  <a:pt x="21919" y="7838"/>
                  <a:pt x="21903" y="7838"/>
                </a:cubicBezTo>
                <a:cubicBezTo>
                  <a:pt x="21903" y="7782"/>
                  <a:pt x="21900" y="7678"/>
                  <a:pt x="21952" y="7640"/>
                </a:cubicBezTo>
                <a:cubicBezTo>
                  <a:pt x="22032" y="7581"/>
                  <a:pt x="22103" y="7629"/>
                  <a:pt x="22175" y="7665"/>
                </a:cubicBezTo>
                <a:cubicBezTo>
                  <a:pt x="22225" y="7690"/>
                  <a:pt x="22269" y="7734"/>
                  <a:pt x="22275" y="7789"/>
                </a:cubicBezTo>
                <a:cubicBezTo>
                  <a:pt x="22279" y="7828"/>
                  <a:pt x="22301" y="7857"/>
                  <a:pt x="22324" y="7888"/>
                </a:cubicBezTo>
              </a:path>
              <a:path w="3548" h="1341">
                <a:moveTo>
                  <a:pt x="22647" y="7615"/>
                </a:moveTo>
                <a:cubicBezTo>
                  <a:pt x="22647" y="7607"/>
                  <a:pt x="22647" y="7598"/>
                  <a:pt x="22647" y="7590"/>
                </a:cubicBezTo>
                <a:cubicBezTo>
                  <a:pt x="22681" y="7602"/>
                  <a:pt x="22659" y="7664"/>
                  <a:pt x="22647" y="7714"/>
                </a:cubicBezTo>
                <a:cubicBezTo>
                  <a:pt x="22633" y="7771"/>
                  <a:pt x="22628" y="7818"/>
                  <a:pt x="22597" y="7838"/>
                </a:cubicBezTo>
                <a:cubicBezTo>
                  <a:pt x="22597" y="7901"/>
                  <a:pt x="22621" y="7761"/>
                  <a:pt x="22622" y="7739"/>
                </a:cubicBezTo>
                <a:cubicBezTo>
                  <a:pt x="22626" y="7671"/>
                  <a:pt x="22661" y="7647"/>
                  <a:pt x="22696" y="7590"/>
                </a:cubicBezTo>
                <a:cubicBezTo>
                  <a:pt x="22729" y="7536"/>
                  <a:pt x="22757" y="7517"/>
                  <a:pt x="22820" y="7565"/>
                </a:cubicBezTo>
                <a:cubicBezTo>
                  <a:pt x="22915" y="7638"/>
                  <a:pt x="22895" y="7757"/>
                  <a:pt x="22895" y="7863"/>
                </a:cubicBezTo>
                <a:cubicBezTo>
                  <a:pt x="22895" y="7914"/>
                  <a:pt x="22909" y="7742"/>
                  <a:pt x="22920" y="7714"/>
                </a:cubicBezTo>
                <a:cubicBezTo>
                  <a:pt x="22944" y="7649"/>
                  <a:pt x="22975" y="7645"/>
                  <a:pt x="23019" y="7615"/>
                </a:cubicBezTo>
                <a:cubicBezTo>
                  <a:pt x="23092" y="7566"/>
                  <a:pt x="23124" y="7634"/>
                  <a:pt x="23143" y="7714"/>
                </a:cubicBezTo>
                <a:cubicBezTo>
                  <a:pt x="23162" y="7794"/>
                  <a:pt x="23153" y="7840"/>
                  <a:pt x="23143" y="7913"/>
                </a:cubicBezTo>
              </a:path>
              <a:path w="3548" h="1341">
                <a:moveTo>
                  <a:pt x="23093" y="7193"/>
                </a:moveTo>
                <a:cubicBezTo>
                  <a:pt x="23128" y="7182"/>
                  <a:pt x="23126" y="7168"/>
                  <a:pt x="23168" y="7144"/>
                </a:cubicBezTo>
                <a:cubicBezTo>
                  <a:pt x="23226" y="7111"/>
                  <a:pt x="23278" y="7073"/>
                  <a:pt x="23341" y="7069"/>
                </a:cubicBezTo>
                <a:cubicBezTo>
                  <a:pt x="23380" y="7067"/>
                  <a:pt x="23435" y="7099"/>
                  <a:pt x="23440" y="7119"/>
                </a:cubicBezTo>
                <a:cubicBezTo>
                  <a:pt x="23460" y="7195"/>
                  <a:pt x="23413" y="7243"/>
                  <a:pt x="23366" y="7293"/>
                </a:cubicBezTo>
                <a:cubicBezTo>
                  <a:pt x="23332" y="7330"/>
                  <a:pt x="23301" y="7337"/>
                  <a:pt x="23267" y="7367"/>
                </a:cubicBezTo>
                <a:cubicBezTo>
                  <a:pt x="23244" y="7390"/>
                  <a:pt x="23236" y="7394"/>
                  <a:pt x="23242" y="7417"/>
                </a:cubicBezTo>
                <a:cubicBezTo>
                  <a:pt x="23268" y="7410"/>
                  <a:pt x="23309" y="7374"/>
                  <a:pt x="23341" y="7392"/>
                </a:cubicBezTo>
                <a:cubicBezTo>
                  <a:pt x="23368" y="7407"/>
                  <a:pt x="23412" y="7458"/>
                  <a:pt x="23440" y="7466"/>
                </a:cubicBezTo>
                <a:cubicBezTo>
                  <a:pt x="23489" y="7480"/>
                  <a:pt x="23514" y="7441"/>
                  <a:pt x="23564" y="7441"/>
                </a:cubicBezTo>
                <a:cubicBezTo>
                  <a:pt x="23572" y="7441"/>
                  <a:pt x="23581" y="7441"/>
                  <a:pt x="23589" y="7441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513000" y="33012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urse 1:  Workbook page 131 all and 1-3 on 13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4T19:23:31Z</dcterms:created>
  <dc:creator>ccps</dc:creator>
  <dc:description/>
  <dc:language>en-US</dc:language>
  <cp:lastModifiedBy>ccps</cp:lastModifiedBy>
  <dcterms:modified xsi:type="dcterms:W3CDTF">2010-02-24T19:24:03Z</dcterms:modified>
  <cp:revision>1</cp:revision>
  <dc:subject/>
  <dc:title>Find the perimeter and area</dc:title>
</cp:coreProperties>
</file>